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58.wmf" ContentType="image/x-wmf"/>
  <Override PartName="/ppt/media/image56.wmf" ContentType="image/x-wmf"/>
  <Override PartName="/ppt/media/image55.wmf" ContentType="image/x-wmf"/>
  <Override PartName="/ppt/media/image54.wmf" ContentType="image/x-wmf"/>
  <Override PartName="/ppt/media/image53.wmf" ContentType="image/x-wmf"/>
  <Override PartName="/ppt/media/image52.wmf" ContentType="image/x-wmf"/>
  <Override PartName="/ppt/media/image51.wmf" ContentType="image/x-wmf"/>
  <Override PartName="/ppt/media/image47.wmf" ContentType="image/x-wmf"/>
  <Override PartName="/ppt/media/image46.wmf" ContentType="image/x-wmf"/>
  <Override PartName="/ppt/media/image45.wmf" ContentType="image/x-wmf"/>
  <Override PartName="/ppt/media/image44.wmf" ContentType="image/x-wmf"/>
  <Override PartName="/ppt/media/image43.wmf" ContentType="image/x-wmf"/>
  <Override PartName="/ppt/media/image42.wmf" ContentType="image/x-wmf"/>
  <Override PartName="/ppt/media/image37.wmf" ContentType="image/x-wmf"/>
  <Override PartName="/ppt/media/image16.wmf" ContentType="image/x-wmf"/>
  <Override PartName="/ppt/media/image57.wmf" ContentType="image/x-wmf"/>
  <Override PartName="/ppt/media/image17.png" ContentType="image/png"/>
  <Override PartName="/ppt/media/image18.wmf" ContentType="image/x-wmf"/>
  <Override PartName="/ppt/media/image20.png" ContentType="image/png"/>
  <Override PartName="/ppt/media/image60.wmf" ContentType="image/x-wmf"/>
  <Override PartName="/ppt/media/image22.png" ContentType="image/png"/>
  <Override PartName="/ppt/media/image62.wmf" ContentType="image/x-wmf"/>
  <Override PartName="/ppt/media/image23.wmf" ContentType="image/x-wmf"/>
  <Override PartName="/ppt/media/image73.wmf" ContentType="image/x-wmf"/>
  <Override PartName="/ppt/media/image3.png" ContentType="image/png"/>
  <Override PartName="/ppt/media/image59.wmf" ContentType="image/x-wmf"/>
  <Override PartName="/ppt/media/image24.wmf" ContentType="image/x-wmf"/>
  <Override PartName="/ppt/media/image61.wmf" ContentType="image/x-wmf"/>
  <Override PartName="/ppt/media/image72.wmf" ContentType="image/x-wmf"/>
  <Override PartName="/ppt/media/image2.png" ContentType="image/png"/>
  <Override PartName="/ppt/media/image71.wmf" ContentType="image/x-wmf"/>
  <Override PartName="/ppt/media/image29.wmf" ContentType="image/x-wmf"/>
  <Override PartName="/ppt/media/image69.wmf" ContentType="image/x-wmf"/>
  <Override PartName="/ppt/media/image32.wmf" ContentType="image/x-wmf"/>
  <Override PartName="/ppt/media/image70.wmf" ContentType="image/x-wmf"/>
  <Override PartName="/ppt/media/image28.wmf" ContentType="image/x-wmf"/>
  <Override PartName="/ppt/media/image68.wmf" ContentType="image/x-wmf"/>
  <Override PartName="/ppt/media/image31.wmf" ContentType="image/x-wmf"/>
  <Override PartName="/ppt/media/image67.wmf" ContentType="image/x-wmf"/>
  <Override PartName="/ppt/media/image30.wmf" ContentType="image/x-wmf"/>
  <Override PartName="/ppt/media/image66.wmf" ContentType="image/x-wmf"/>
  <Override PartName="/ppt/media/image10.png" ContentType="image/png"/>
  <Override PartName="/ppt/media/image21.png" ContentType="image/png"/>
  <Override PartName="/ppt/media/image1.jpeg" ContentType="image/jpeg"/>
  <Override PartName="/ppt/media/image50.wmf" ContentType="image/x-wmf"/>
  <Override PartName="/ppt/media/image65.wmf" ContentType="image/x-wmf"/>
  <Override PartName="/ppt/media/image27.wmf" ContentType="image/x-wmf"/>
  <Override PartName="/ppt/media/image64.wmf" ContentType="image/x-wmf"/>
  <Override PartName="/ppt/media/image26.wmf" ContentType="image/x-wmf"/>
  <Override PartName="/ppt/media/image63.wmf" ContentType="image/x-wmf"/>
  <Override PartName="/ppt/media/image25.wmf" ContentType="image/x-wmf"/>
  <Override PartName="/ppt/media/image4.jpeg" ContentType="image/jpeg"/>
  <Override PartName="/ppt/media/image38.wmf" ContentType="image/x-wmf"/>
  <Override PartName="/ppt/media/image5.jpeg" ContentType="image/jpeg"/>
  <Override PartName="/ppt/media/image11.wmf" ContentType="image/x-wmf"/>
  <Override PartName="/ppt/media/image48.wmf" ContentType="image/x-wmf"/>
  <Override PartName="/ppt/media/image9.wmf" ContentType="image/x-wmf"/>
  <Override PartName="/ppt/media/image39.wmf" ContentType="image/x-wmf"/>
  <Override PartName="/ppt/media/image14.wmf" ContentType="image/x-wmf"/>
  <Override PartName="/ppt/media/image15.wmf" ContentType="image/x-wmf"/>
  <Override PartName="/ppt/media/image6.png" ContentType="image/png"/>
  <Override PartName="/ppt/media/image40.wmf" ContentType="image/x-wmf"/>
  <Override PartName="/ppt/media/image12.wmf" ContentType="image/x-wmf"/>
  <Override PartName="/ppt/media/image49.wmf" ContentType="image/x-wmf"/>
  <Override PartName="/ppt/media/image8.jpeg" ContentType="image/jpeg"/>
  <Override PartName="/ppt/media/image19.png" ContentType="image/png"/>
  <Override PartName="/ppt/media/image7.png" ContentType="image/png"/>
  <Override PartName="/ppt/media/image41.wmf" ContentType="image/x-wmf"/>
  <Override PartName="/ppt/media/image13.wmf" ContentType="image/x-wmf"/>
  <Override PartName="/ppt/media/image33.wmf" ContentType="image/x-wmf"/>
  <Override PartName="/ppt/media/image34.wmf" ContentType="image/x-wmf"/>
  <Override PartName="/ppt/media/image35.wmf" ContentType="image/x-wmf"/>
  <Override PartName="/ppt/media/image36.wmf" ContentType="image/x-wmf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  <p:sldId id="284" r:id="rId44"/>
    <p:sldId id="285" r:id="rId45"/>
    <p:sldId id="286" r:id="rId46"/>
    <p:sldId id="287" r:id="rId47"/>
    <p:sldId id="288" r:id="rId48"/>
    <p:sldId id="289" r:id="rId49"/>
    <p:sldId id="290" r:id="rId50"/>
    <p:sldId id="291" r:id="rId51"/>
    <p:sldId id="292" r:id="rId52"/>
    <p:sldId id="293" r:id="rId53"/>
    <p:sldId id="294" r:id="rId54"/>
    <p:sldId id="295" r:id="rId55"/>
    <p:sldId id="296" r:id="rId56"/>
    <p:sldId id="297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slide" Target="slides/slide29.xml"/><Relationship Id="rId45" Type="http://schemas.openxmlformats.org/officeDocument/2006/relationships/slide" Target="slides/slide30.xml"/><Relationship Id="rId46" Type="http://schemas.openxmlformats.org/officeDocument/2006/relationships/slide" Target="slides/slide31.xml"/><Relationship Id="rId47" Type="http://schemas.openxmlformats.org/officeDocument/2006/relationships/slide" Target="slides/slide32.xml"/><Relationship Id="rId48" Type="http://schemas.openxmlformats.org/officeDocument/2006/relationships/slide" Target="slides/slide33.xml"/><Relationship Id="rId49" Type="http://schemas.openxmlformats.org/officeDocument/2006/relationships/slide" Target="slides/slide34.xml"/><Relationship Id="rId50" Type="http://schemas.openxmlformats.org/officeDocument/2006/relationships/slide" Target="slides/slide35.xml"/><Relationship Id="rId51" Type="http://schemas.openxmlformats.org/officeDocument/2006/relationships/slide" Target="slides/slide36.xml"/><Relationship Id="rId52" Type="http://schemas.openxmlformats.org/officeDocument/2006/relationships/slide" Target="slides/slide37.xml"/><Relationship Id="rId53" Type="http://schemas.openxmlformats.org/officeDocument/2006/relationships/slide" Target="slides/slide38.xml"/><Relationship Id="rId54" Type="http://schemas.openxmlformats.org/officeDocument/2006/relationships/slide" Target="slides/slide39.xml"/><Relationship Id="rId55" Type="http://schemas.openxmlformats.org/officeDocument/2006/relationships/slide" Target="slides/slide40.xml"/><Relationship Id="rId56" Type="http://schemas.openxmlformats.org/officeDocument/2006/relationships/slide" Target="slides/slide41.xml"/><Relationship Id="rId57" Type="http://schemas.openxmlformats.org/officeDocument/2006/relationships/slide" Target="slides/slide42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28420-6E01-4090-8D84-91784F5B5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326AB-D46D-4713-A482-48C364B2D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C08C91-07A1-421E-B3A3-E1086EAC2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CAF6CB-1164-40F4-9490-9A096D46C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52E06E-A274-4410-BA7C-892C2816F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94B25C-EF46-4A4D-A157-9ACC76123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CEE284-CECB-41A7-9494-940985DD9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FE43A5-B0B6-42A3-AD45-2671E4E69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DD8526-0AFF-4923-A17B-03BDD4CF0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30B0D6-C257-4721-B117-4DE903E39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7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8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48AF04-FF4E-4DB2-BA4C-C83824D4F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7A0825-A4F6-45AD-9185-9304499CF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971BB-9948-404B-BC86-5EDC89E37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8C55D6-AA6A-416E-9C47-BAA38DE94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710F21-7A86-43E0-9F31-0DEB10072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A28AA6-A619-4591-8EDA-AF25AE8A2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AF6D46-F459-4FAD-8EDC-6D0477076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389C12-91BB-4EDB-95A8-BDB3FCB6D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F53314-5398-462D-A8BC-BF6B9983B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54111B-45C2-4E36-83F0-2332D3EBF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A9D51E-E3D5-4D52-BB4B-47F6CAF04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484455-3FAC-4A4A-AF8C-571E161CE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C03AB6-BEEF-460E-B9B8-153509EE3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240FD-2E10-42B5-B01B-451F15F81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D8B34C-EF25-468D-B187-B03AA66DF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5730DC-59C7-436F-B0C6-19E25AABA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6B4B22-0D80-4DE4-9518-3D0F7B3B8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5216FD-4262-4989-8E98-DFECE4E37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D68B32-B44C-4431-BD71-74359F071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111D5D-1E48-46D8-9F60-3147C03D6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7F023D-D0DE-4F41-A445-2041B8CEA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26B569-BD18-4F59-86F8-7D38339A8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219F6F-A781-4079-AEF5-993F8ADAB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47943E-942C-4914-8C1B-81DF6194F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54795-96F6-4916-8F4A-3CF4B7DB1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CF1999-80C4-4014-B304-54272F5FC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C300EE-628F-4590-9DB7-D8036FC2C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809347-AF39-4285-B929-6797E24FC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14BB67-7995-4604-B67D-88FE4F1FA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D2A721-2730-467D-96D9-3D7C6AF3F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28FA17-A9C5-450E-AE52-9946B3193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F6677A-57D6-4446-804F-10FDF402B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59481D-E259-4196-9713-3C6AE774F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2F20E5-6CC7-4D87-B726-31028E9A1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1C4327-CBC4-4C29-A445-03F4699A3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4297E-BF03-4501-9761-35184A5EB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D21EBC-3290-4A20-98CE-5D1A6BB1A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6BA8D3-4D0A-4D91-AA93-A83BCA176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4F3031-2E14-4FF9-9083-ED59CD4A1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5539A1-2F0C-4ADD-B307-F0D3C53F2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91E491-719B-4336-9064-FF2294C7F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F28BE3A-A986-484B-9A5D-6639EF429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1419B92-E349-4F69-8A9C-06B688F87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86B5D25-8B47-4DF3-8922-B6DBBCEAD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A466BE3-118C-4159-B66F-4FE7B4E6C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40560BA-2594-4A38-AFC7-B2C8B4A0C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85E0C-C1FC-4448-90C7-3093F765A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96430B7-C9DA-4F57-9B5D-C17F66C2C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AA074C3-64A4-49A4-BF64-07000982B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28D854E-AFC0-4CC1-ABA0-A0F475B1A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CAE9601-B4DC-471E-88E8-B604A22ED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DC24AB1-3C2F-4953-9850-A0653D526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5981201-9BC7-4ED5-9B0C-D50C884A7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4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5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6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380C49A-E4D6-421F-AE9B-EF32045E5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76B5941-9725-44CF-B6E7-323321D2C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7FA5C5C-BC7A-44D4-9809-AABD8DF96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183D978-BCF1-4400-82EA-B70574F9E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A1EC8-D0B2-4FD1-9CC8-372C6DB91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F0259D5-9BCB-47EB-902A-2F24452CA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D498DAE-EEC5-4FB8-92A4-F3FE46232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F5B8D13-D98A-4943-91F2-0FA478BF1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A894495-F2F6-4B51-962A-9EB8ED912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5C9ABF7-C12C-4A1E-8312-66F0A609F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1B3EA6B-7E78-40C9-825E-4F3C49AC5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D236DB2-B743-4DE5-A0B6-7C4B95BD2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03C5EBC-0A19-442A-8D9E-B33351CDD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E820F59-471F-4FF3-9F22-F2CDDF542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530FA-4A43-42AA-B2F1-1050BD474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5BD2D-84B6-449B-9829-FEDB68535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1A266-97BC-4A05-A04D-5537D9BF1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E4A9A-7B37-4372-9011-B72400CCF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DD720-4F7A-4CB9-8B90-A6F40E293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A9340-9E25-4B72-9B7D-D959EA492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4832F-395F-41AF-B4F7-FFF2B8BE6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26F32-A64C-45F3-9633-C2BC209BD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9F8EB-38DD-41EA-B046-6E57C8BC0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CA0029-809F-4A3F-B218-503A39613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433538-5D55-4EC9-97BD-1C680EB37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0A6F39-CDD0-42B5-9138-E1BD52F5A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B8F1F4-9DBB-41BA-9F1D-14F2B0291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E46262-2A0F-4B97-B564-3688E9125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A6F02-A91F-4A35-9853-2021732C1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237D18-2B07-48A1-947D-33293014F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594AF1-A2A5-4490-9D9D-B06C84502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5C001B-EA98-4C76-BF86-78243DDE0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2E7674-6380-4793-A31B-8F42D224B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972AB3-76A7-400A-B9CC-73086FD51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C568C6-3C99-4DDE-B3A6-D537F7993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13D527-5DE7-42B5-B5BC-1FAF972DB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B6B39D-4739-43D3-AD5A-4FA61DACE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F84BBF-65DF-4A5B-B787-F0F6D65C7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CA1B86-7B37-4D50-ADAD-E202B5B7F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67B33-6558-4D72-A62D-F4A62B452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2CBC09-C5D1-4033-B5B2-F06A02B2B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8A9662-E5AD-4460-A584-5D8249F39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7299BB-4588-4B85-8827-0271ACDA2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7AEE26-BDC5-4F78-8A4F-E03F989A0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16424C-EFB2-444D-9D81-7EDB1BA97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B6DE14-A9DA-4D17-924A-ACC3579BB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4DDAEA-60DB-4DA7-88C9-9EBEE091C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BF6056-8D62-41B4-BD20-D2849EF07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A0AF24-A04F-4762-9CF4-B7508B1BF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16C736-E7A6-4CB7-8CE1-C4995C50C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5C8DE-2DA3-45D0-8171-0A0FE9F26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B5011F-D8F4-475C-AB63-E9AE45E98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5C1965-A95A-4699-9DBC-17E8C796B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E71344-69AB-4B33-982D-3BCEE28B9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F33D07-9A32-4105-997F-4694EB83B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7A7FF1-952F-45B5-A480-7C57F8EAF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F60A69-23B1-4255-A9B1-E4CA3DA8A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E206B5-0B9A-4A67-B51E-1080C28D5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5EB4DF-6762-4684-A389-EC5766202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E963F9-8C74-4A40-B862-C6823E0E1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D55160-4F88-4211-8C07-D6A89A2D8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C77A5-8337-443D-81B9-798C22169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667154-296C-4DE6-84C2-A68AF3B40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D90EFB-C0B4-43E2-B639-1549C8DB4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CF62C1-7A88-4343-83A2-8F72E84D8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98EC0C-A0D6-4D0C-9129-6903016D2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D3691F-4A62-4DA9-A312-1A8431F30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4ABC0C-4BEC-45AB-B8BA-F4A3E7D45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49A23B-D3E2-43AD-A915-68D5FC0DA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5D3C74-F881-45BB-8919-629D9433A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45C81E-8B9C-4770-BD60-6832748AF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C0BFBF-10CE-4CCE-8FC8-0A1D362BC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180AD-3EB5-444E-AD4E-57C245CA1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F62CC1-4F38-42D0-916F-185F71003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D8EA96-790C-4EED-B945-0B625351D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00AABA-99E1-4083-90A3-6F935A8B6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5E0D6D-F52C-401D-BE46-0FDAAAC91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0B9809-B547-4C79-A48E-87A2A3306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734E16-4604-4CCD-BECF-4312AC9C8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3E727A-C32C-44A1-AFFE-E02AB2553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4826FE-A795-4130-A4A3-9DD29B6CF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E13726-85BC-4A08-9E7C-CF0A70E57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45F98C-B106-4C88-9606-FF37549A4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7B94D-2E25-44B6-BC1F-CD3E19823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CE1017-9715-44CC-A351-C84A64578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F98B69-B475-4B5D-B699-5FCA06390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089A01-28CA-4448-A226-70C2DF2AD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993D4B-C630-4753-8F7E-63EDE3B47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5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6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19A4B7-26FA-42DA-85B1-C11B325C3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6B5596-DD81-4F48-B493-B116D55AD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508AC1-BE8C-48C1-891B-B4A165C4A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4FCF16-92F3-4A5E-A6C1-2ECD8155B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37A66B-77F0-4880-B519-5469AC798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F81A2E-0BD8-4876-8FFF-58041181C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8739D-D440-4A83-B55E-860E16D55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5E2B4F-7B85-4251-B234-3A9937D56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3B8169-EA3A-4E4B-8942-C230190AE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D19055-504F-4AA3-B802-1E720E7F5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109F1C-0055-49CF-98F9-237ED12CE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4D24C8-8472-4962-82E0-01AAFF74B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A093C1-6577-4B15-89D4-CFC1DFE76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ED90C6-08F1-4390-9DBF-EF286D889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6F718F-25BF-4AD6-A1B6-A36185843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335DFF-AB4E-434A-A16D-C4B1AF19B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889F2B-E0A4-493A-8DB6-5F9C3F5CB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21.xml"/><Relationship Id="rId7" Type="http://schemas.openxmlformats.org/officeDocument/2006/relationships/slideLayout" Target="../slideLayouts/slideLayout122.xml"/><Relationship Id="rId8" Type="http://schemas.openxmlformats.org/officeDocument/2006/relationships/slideLayout" Target="../slideLayouts/slideLayout123.xml"/><Relationship Id="rId9" Type="http://schemas.openxmlformats.org/officeDocument/2006/relationships/slideLayout" Target="../slideLayouts/slideLayout124.xml"/><Relationship Id="rId10" Type="http://schemas.openxmlformats.org/officeDocument/2006/relationships/slideLayout" Target="../slideLayouts/slideLayout125.xml"/><Relationship Id="rId11" Type="http://schemas.openxmlformats.org/officeDocument/2006/relationships/slideLayout" Target="../slideLayouts/slideLayout126.xml"/><Relationship Id="rId12" Type="http://schemas.openxmlformats.org/officeDocument/2006/relationships/slideLayout" Target="../slideLayouts/slideLayout127.xml"/><Relationship Id="rId13" Type="http://schemas.openxmlformats.org/officeDocument/2006/relationships/slideLayout" Target="../slideLayouts/slideLayout128.xml"/><Relationship Id="rId14" Type="http://schemas.openxmlformats.org/officeDocument/2006/relationships/slideLayout" Target="../slideLayouts/slideLayout129.xml"/><Relationship Id="rId15" Type="http://schemas.openxmlformats.org/officeDocument/2006/relationships/slideLayout" Target="../slideLayouts/slideLayout130.xml"/><Relationship Id="rId16" Type="http://schemas.openxmlformats.org/officeDocument/2006/relationships/slideLayout" Target="../slideLayouts/slideLayout131.xml"/><Relationship Id="rId17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3.xml"/><Relationship Id="rId7" Type="http://schemas.openxmlformats.org/officeDocument/2006/relationships/slideLayout" Target="../slideLayouts/slideLayout134.xml"/><Relationship Id="rId8" Type="http://schemas.openxmlformats.org/officeDocument/2006/relationships/slideLayout" Target="../slideLayouts/slideLayout135.xml"/><Relationship Id="rId9" Type="http://schemas.openxmlformats.org/officeDocument/2006/relationships/slideLayout" Target="../slideLayouts/slideLayout136.xml"/><Relationship Id="rId10" Type="http://schemas.openxmlformats.org/officeDocument/2006/relationships/slideLayout" Target="../slideLayouts/slideLayout137.xml"/><Relationship Id="rId11" Type="http://schemas.openxmlformats.org/officeDocument/2006/relationships/slideLayout" Target="../slideLayouts/slideLayout138.xml"/><Relationship Id="rId12" Type="http://schemas.openxmlformats.org/officeDocument/2006/relationships/slideLayout" Target="../slideLayouts/slideLayout139.xml"/><Relationship Id="rId13" Type="http://schemas.openxmlformats.org/officeDocument/2006/relationships/slideLayout" Target="../slideLayouts/slideLayout140.xml"/><Relationship Id="rId14" Type="http://schemas.openxmlformats.org/officeDocument/2006/relationships/slideLayout" Target="../slideLayouts/slideLayout141.xml"/><Relationship Id="rId15" Type="http://schemas.openxmlformats.org/officeDocument/2006/relationships/slideLayout" Target="../slideLayouts/slideLayout142.xml"/><Relationship Id="rId16" Type="http://schemas.openxmlformats.org/officeDocument/2006/relationships/slideLayout" Target="../slideLayouts/slideLayout143.xml"/><Relationship Id="rId17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45.xml"/><Relationship Id="rId7" Type="http://schemas.openxmlformats.org/officeDocument/2006/relationships/slideLayout" Target="../slideLayouts/slideLayout146.xml"/><Relationship Id="rId8" Type="http://schemas.openxmlformats.org/officeDocument/2006/relationships/slideLayout" Target="../slideLayouts/slideLayout147.xml"/><Relationship Id="rId9" Type="http://schemas.openxmlformats.org/officeDocument/2006/relationships/slideLayout" Target="../slideLayouts/slideLayout148.xml"/><Relationship Id="rId10" Type="http://schemas.openxmlformats.org/officeDocument/2006/relationships/slideLayout" Target="../slideLayouts/slideLayout149.xml"/><Relationship Id="rId11" Type="http://schemas.openxmlformats.org/officeDocument/2006/relationships/slideLayout" Target="../slideLayouts/slideLayout150.xml"/><Relationship Id="rId12" Type="http://schemas.openxmlformats.org/officeDocument/2006/relationships/slideLayout" Target="../slideLayouts/slideLayout151.xml"/><Relationship Id="rId13" Type="http://schemas.openxmlformats.org/officeDocument/2006/relationships/slideLayout" Target="../slideLayouts/slideLayout152.xml"/><Relationship Id="rId14" Type="http://schemas.openxmlformats.org/officeDocument/2006/relationships/slideLayout" Target="../slideLayouts/slideLayout153.xml"/><Relationship Id="rId15" Type="http://schemas.openxmlformats.org/officeDocument/2006/relationships/slideLayout" Target="../slideLayouts/slideLayout154.xml"/><Relationship Id="rId16" Type="http://schemas.openxmlformats.org/officeDocument/2006/relationships/slideLayout" Target="../slideLayouts/slideLayout155.xml"/><Relationship Id="rId17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57.xml"/><Relationship Id="rId7" Type="http://schemas.openxmlformats.org/officeDocument/2006/relationships/slideLayout" Target="../slideLayouts/slideLayout158.xml"/><Relationship Id="rId8" Type="http://schemas.openxmlformats.org/officeDocument/2006/relationships/slideLayout" Target="../slideLayouts/slideLayout159.xml"/><Relationship Id="rId9" Type="http://schemas.openxmlformats.org/officeDocument/2006/relationships/slideLayout" Target="../slideLayouts/slideLayout160.xml"/><Relationship Id="rId10" Type="http://schemas.openxmlformats.org/officeDocument/2006/relationships/slideLayout" Target="../slideLayouts/slideLayout161.xml"/><Relationship Id="rId11" Type="http://schemas.openxmlformats.org/officeDocument/2006/relationships/slideLayout" Target="../slideLayouts/slideLayout162.xml"/><Relationship Id="rId12" Type="http://schemas.openxmlformats.org/officeDocument/2006/relationships/slideLayout" Target="../slideLayouts/slideLayout163.xml"/><Relationship Id="rId13" Type="http://schemas.openxmlformats.org/officeDocument/2006/relationships/slideLayout" Target="../slideLayouts/slideLayout164.xml"/><Relationship Id="rId14" Type="http://schemas.openxmlformats.org/officeDocument/2006/relationships/slideLayout" Target="../slideLayouts/slideLayout165.xml"/><Relationship Id="rId15" Type="http://schemas.openxmlformats.org/officeDocument/2006/relationships/slideLayout" Target="../slideLayouts/slideLayout166.xml"/><Relationship Id="rId16" Type="http://schemas.openxmlformats.org/officeDocument/2006/relationships/slideLayout" Target="../slideLayouts/slideLayout167.xml"/><Relationship Id="rId17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85.xml"/><Relationship Id="rId7" Type="http://schemas.openxmlformats.org/officeDocument/2006/relationships/slideLayout" Target="../slideLayouts/slideLayout86.xml"/><Relationship Id="rId8" Type="http://schemas.openxmlformats.org/officeDocument/2006/relationships/slideLayout" Target="../slideLayouts/slideLayout87.xml"/><Relationship Id="rId9" Type="http://schemas.openxmlformats.org/officeDocument/2006/relationships/slideLayout" Target="../slideLayouts/slideLayout88.xml"/><Relationship Id="rId10" Type="http://schemas.openxmlformats.org/officeDocument/2006/relationships/slideLayout" Target="../slideLayouts/slideLayout89.xml"/><Relationship Id="rId11" Type="http://schemas.openxmlformats.org/officeDocument/2006/relationships/slideLayout" Target="../slideLayouts/slideLayout90.xml"/><Relationship Id="rId12" Type="http://schemas.openxmlformats.org/officeDocument/2006/relationships/slideLayout" Target="../slideLayouts/slideLayout91.xml"/><Relationship Id="rId13" Type="http://schemas.openxmlformats.org/officeDocument/2006/relationships/slideLayout" Target="../slideLayouts/slideLayout92.xml"/><Relationship Id="rId14" Type="http://schemas.openxmlformats.org/officeDocument/2006/relationships/slideLayout" Target="../slideLayouts/slideLayout93.xml"/><Relationship Id="rId15" Type="http://schemas.openxmlformats.org/officeDocument/2006/relationships/slideLayout" Target="../slideLayouts/slideLayout94.xml"/><Relationship Id="rId16" Type="http://schemas.openxmlformats.org/officeDocument/2006/relationships/slideLayout" Target="../slideLayouts/slideLayout95.xml"/><Relationship Id="rId17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4A489-2307-4EAF-9780-66F916F0BCF6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4" name="Picture 8" descr="LOGO"/>
          <p:cNvPicPr/>
          <p:nvPr/>
        </p:nvPicPr>
        <p:blipFill>
          <a:blip r:embed="rId5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 type="ftr" idx="29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 type="sldNum" idx="30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06122-581D-49BF-AEB1-290BCC925613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6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07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08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9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0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11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2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513" name="Picture 8" descr="LOGO"/>
          <p:cNvPicPr/>
          <p:nvPr/>
        </p:nvPicPr>
        <p:blipFill>
          <a:blip r:embed="rId5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 type="ftr" idx="3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 type="sldNum" idx="3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1AB9B-89AE-4702-AC87-90601E612A25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6"/>
    <p:sldLayoutId id="2147483780" r:id="rId7"/>
    <p:sldLayoutId id="2147483781" r:id="rId8"/>
    <p:sldLayoutId id="2147483782" r:id="rId9"/>
    <p:sldLayoutId id="2147483783" r:id="rId10"/>
    <p:sldLayoutId id="2147483784" r:id="rId11"/>
    <p:sldLayoutId id="2147483785" r:id="rId12"/>
    <p:sldLayoutId id="2147483786" r:id="rId13"/>
    <p:sldLayoutId id="2147483787" r:id="rId14"/>
    <p:sldLayoutId id="2147483788" r:id="rId15"/>
    <p:sldLayoutId id="2147483789" r:id="rId16"/>
    <p:sldLayoutId id="2147483790" r:id="rId17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5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5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6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564" name="Picture 8" descr="LOGO"/>
          <p:cNvPicPr/>
          <p:nvPr/>
        </p:nvPicPr>
        <p:blipFill>
          <a:blip r:embed="rId5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ftr" idx="3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sldNum" idx="3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4CAC1-F46C-4DE4-A5E9-270ECA9D7782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6"/>
    <p:sldLayoutId id="2147483793" r:id="rId7"/>
    <p:sldLayoutId id="2147483794" r:id="rId8"/>
    <p:sldLayoutId id="2147483795" r:id="rId9"/>
    <p:sldLayoutId id="2147483796" r:id="rId10"/>
    <p:sldLayoutId id="2147483797" r:id="rId11"/>
    <p:sldLayoutId id="2147483798" r:id="rId12"/>
    <p:sldLayoutId id="2147483799" r:id="rId13"/>
    <p:sldLayoutId id="2147483800" r:id="rId14"/>
    <p:sldLayoutId id="2147483801" r:id="rId15"/>
    <p:sldLayoutId id="2147483802" r:id="rId16"/>
    <p:sldLayoutId id="2147483803" r:id="rId17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8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609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610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11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2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613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14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15" name="Picture 8" descr="LOGO"/>
          <p:cNvPicPr/>
          <p:nvPr/>
        </p:nvPicPr>
        <p:blipFill>
          <a:blip r:embed="rId5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 type="ftr" idx="3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5"/>
          <p:cNvSpPr>
            <a:spLocks noGrp="1"/>
          </p:cNvSpPr>
          <p:nvPr>
            <p:ph type="sldNum" idx="3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92B36-B80F-4319-85B5-F77E6E2BB354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6"/>
    <p:sldLayoutId id="2147483806" r:id="rId7"/>
    <p:sldLayoutId id="2147483807" r:id="rId8"/>
    <p:sldLayoutId id="2147483808" r:id="rId9"/>
    <p:sldLayoutId id="2147483809" r:id="rId10"/>
    <p:sldLayoutId id="2147483810" r:id="rId11"/>
    <p:sldLayoutId id="2147483811" r:id="rId12"/>
    <p:sldLayoutId id="2147483812" r:id="rId13"/>
    <p:sldLayoutId id="2147483813" r:id="rId14"/>
    <p:sldLayoutId id="2147483814" r:id="rId15"/>
    <p:sldLayoutId id="2147483815" r:id="rId16"/>
    <p:sldLayoutId id="2147483816" r:id="rId17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9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660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661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62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3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664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65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66" name="Picture 8" descr="LOGO"/>
          <p:cNvPicPr/>
          <p:nvPr/>
        </p:nvPicPr>
        <p:blipFill>
          <a:blip r:embed="rId5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 type="dt" idx="4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5"/>
          <p:cNvSpPr>
            <a:spLocks noGrp="1"/>
          </p:cNvSpPr>
          <p:nvPr>
            <p:ph type="sldNum" idx="4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3D0C2-626C-425D-9529-FEF66F1EAE3C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6"/>
    <p:sldLayoutId id="2147483819" r:id="rId7"/>
    <p:sldLayoutId id="2147483820" r:id="rId8"/>
    <p:sldLayoutId id="2147483821" r:id="rId9"/>
    <p:sldLayoutId id="2147483822" r:id="rId10"/>
    <p:sldLayoutId id="2147483823" r:id="rId11"/>
    <p:sldLayoutId id="2147483824" r:id="rId12"/>
    <p:sldLayoutId id="2147483825" r:id="rId13"/>
    <p:sldLayoutId id="2147483826" r:id="rId14"/>
    <p:sldLayoutId id="2147483827" r:id="rId15"/>
    <p:sldLayoutId id="2147483828" r:id="rId16"/>
    <p:sldLayoutId id="2147483829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4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5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8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0" name="Picture 8" descr="LOGO"/>
          <p:cNvPicPr/>
          <p:nvPr/>
        </p:nvPicPr>
        <p:blipFill>
          <a:blip r:embed="rId5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536A3-7334-4DF7-88C8-209584A4252C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5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6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9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11" name="Picture 8" descr="LOGO"/>
          <p:cNvPicPr/>
          <p:nvPr/>
        </p:nvPicPr>
        <p:blipFill>
          <a:blip r:embed="rId5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237ED-AF36-44B8-A562-88FE936889BA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56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57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8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9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60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1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62" name="Picture 8" descr="LOGO"/>
          <p:cNvPicPr/>
          <p:nvPr/>
        </p:nvPicPr>
        <p:blipFill>
          <a:blip r:embed="rId5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2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2F2FC-45DA-4E61-B9AB-D71E41D04FB9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07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208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9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0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11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2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213" name="Picture 8" descr="LOGO"/>
          <p:cNvPicPr/>
          <p:nvPr/>
        </p:nvPicPr>
        <p:blipFill>
          <a:blip r:embed="rId5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5671D-878E-4970-B861-01F760FD11CF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5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25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6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264" name="Picture 8" descr="LOGO"/>
          <p:cNvPicPr/>
          <p:nvPr/>
        </p:nvPicPr>
        <p:blipFill>
          <a:blip r:embed="rId5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ftr" idx="17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sldNum" idx="18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9B78D-94B9-422F-A455-D3EA7FC92CFA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8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309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310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1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2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313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4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315" name="Picture 8" descr="LOGO"/>
          <p:cNvPicPr/>
          <p:nvPr/>
        </p:nvPicPr>
        <p:blipFill>
          <a:blip r:embed="rId5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 type="ftr" idx="20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 type="sldNum" idx="21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10393-7382-4080-8455-1D9EB2A2994C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9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360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361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2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3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364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5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366" name="Picture 8" descr="LOGO"/>
          <p:cNvPicPr/>
          <p:nvPr/>
        </p:nvPicPr>
        <p:blipFill>
          <a:blip r:embed="rId5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 type="ftr" idx="23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 type="sldNum" idx="24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1D6D3-D811-4B80-AB0F-238602B48991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6"/>
    <p:sldLayoutId id="2147483741" r:id="rId7"/>
    <p:sldLayoutId id="2147483742" r:id="rId8"/>
    <p:sldLayoutId id="2147483743" r:id="rId9"/>
    <p:sldLayoutId id="2147483744" r:id="rId10"/>
    <p:sldLayoutId id="2147483745" r:id="rId11"/>
    <p:sldLayoutId id="2147483746" r:id="rId12"/>
    <p:sldLayoutId id="2147483747" r:id="rId13"/>
    <p:sldLayoutId id="2147483748" r:id="rId14"/>
    <p:sldLayoutId id="2147483749" r:id="rId15"/>
    <p:sldLayoutId id="2147483750" r:id="rId16"/>
    <p:sldLayoutId id="2147483751" r:id="rId17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0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411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412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3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4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415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6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417" name="Picture 8" descr="LOGO"/>
          <p:cNvPicPr/>
          <p:nvPr/>
        </p:nvPicPr>
        <p:blipFill>
          <a:blip r:embed="rId5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 type="ftr" idx="26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 type="sldNum" idx="27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44B51-E538-426D-A365-D3A8CA9EC599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6.wmf"/><Relationship Id="rId9" Type="http://schemas.openxmlformats.org/officeDocument/2006/relationships/slideLayout" Target="../slideLayouts/slideLayout8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8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2.png"/><Relationship Id="rId7" Type="http://schemas.openxmlformats.org/officeDocument/2006/relationships/image" Target="../media/image22.png"/><Relationship Id="rId8" Type="http://schemas.openxmlformats.org/officeDocument/2006/relationships/slideLayout" Target="../slideLayouts/slideLayout8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7.wmf"/><Relationship Id="rId1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2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3.wmf"/><Relationship Id="rId15" Type="http://schemas.openxmlformats.org/officeDocument/2006/relationships/slideLayout" Target="../slideLayouts/slideLayout8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7.wmf"/><Relationship Id="rId11" Type="http://schemas.openxmlformats.org/officeDocument/2006/relationships/slideLayout" Target="../slideLayouts/slideLayout8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1.wmf"/><Relationship Id="rId11" Type="http://schemas.openxmlformats.org/officeDocument/2006/relationships/slideLayout" Target="../slideLayouts/slideLayout8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6.wmf"/><Relationship Id="rId13" Type="http://schemas.openxmlformats.org/officeDocument/2006/relationships/slideLayout" Target="../slideLayouts/slideLayout8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0.wmf"/><Relationship Id="rId9" Type="http://schemas.openxmlformats.org/officeDocument/2006/relationships/slideLayout" Target="../slideLayouts/slideLayout8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5.wmf"/><Relationship Id="rId11" Type="http://schemas.openxmlformats.org/officeDocument/2006/relationships/slideLayout" Target="../slideLayouts/slideLayout8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8.wmf"/><Relationship Id="rId7" Type="http://schemas.openxmlformats.org/officeDocument/2006/relationships/slideLayout" Target="../slideLayouts/slideLayout8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0.wmf"/><Relationship Id="rId7" Type="http://schemas.openxmlformats.org/officeDocument/2006/relationships/slideLayout" Target="../slideLayouts/slideLayout8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2.wmf"/><Relationship Id="rId5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7.wmf"/><Relationship Id="rId11" Type="http://schemas.openxmlformats.org/officeDocument/2006/relationships/slideLayout" Target="../slideLayouts/slideLayout8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1.wmf"/><Relationship Id="rId9" Type="http://schemas.openxmlformats.org/officeDocument/2006/relationships/slideLayout" Target="../slideLayouts/slideLayout8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3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TextBox 2"/>
          <p:cNvSpPr/>
          <p:nvPr/>
        </p:nvSpPr>
        <p:spPr>
          <a:xfrm>
            <a:off x="395280" y="1268280"/>
            <a:ext cx="8353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грисане академске студије фармације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колска 2017/20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TextBox 4"/>
          <p:cNvSpPr/>
          <p:nvPr/>
        </p:nvSpPr>
        <p:spPr>
          <a:xfrm>
            <a:off x="539640" y="2997360"/>
            <a:ext cx="7993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Аналитичка хемија (</a:t>
            </a:r>
            <a:r>
              <a:rPr b="1" lang="sr-C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А04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)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еста недељ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тавник: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ц. др Марија Д. Живковић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Rectangle 2"/>
          <p:cNvSpPr/>
          <p:nvPr/>
        </p:nvSpPr>
        <p:spPr>
          <a:xfrm>
            <a:off x="182520" y="1125360"/>
            <a:ext cx="4572000" cy="14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иза мокрим путем се дели на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изу катјона 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изу а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ј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а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Rectangle 4"/>
          <p:cNvSpPr/>
          <p:nvPr/>
        </p:nvSpPr>
        <p:spPr>
          <a:xfrm>
            <a:off x="182520" y="2708280"/>
            <a:ext cx="8209080" cy="37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актеристичне особине на основу којих се одређује присутност неке супстанце могу бити 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мена боје услед г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ђења обојеног једињења у раствору (или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шчезавање боје)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ђење талога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ређене боје и хемијских особина или растварање талога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двајање гаса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актеристичних физичких (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риса, боје)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хемијских особина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астајање једињења карактеристичног мирис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/>
          </p:nvPr>
        </p:nvSpPr>
        <p:spPr>
          <a:xfrm>
            <a:off x="182160" y="2133720"/>
            <a:ext cx="889308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е карактеристике аналитичких реакциј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у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 algn="just">
              <a:lnSpc>
                <a:spcPct val="100000"/>
              </a:lnSpc>
              <a:spcBef>
                <a:spcPts val="601"/>
              </a:spcBef>
              <a:buClr>
                <a:srgbClr val="c00000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етљивост,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 algn="just">
              <a:lnSpc>
                <a:spcPct val="100000"/>
              </a:lnSpc>
              <a:spcBef>
                <a:spcPts val="601"/>
              </a:spcBef>
              <a:buClr>
                <a:srgbClr val="c00000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фичност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рило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етљивости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 гранична концентрација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нична концентрација (γ) је најмања концентрација у [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/c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 при којој супстанца (јон) може поуздано да се докаже одређеном реакцијом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8" name="Rectangle 4"/>
          <p:cNvSpPr/>
          <p:nvPr/>
        </p:nvSpPr>
        <p:spPr>
          <a:xfrm>
            <a:off x="468360" y="1125360"/>
            <a:ext cx="835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сновне карактеристике аналитичких реакци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Rectangle 3"/>
          <p:cNvSpPr/>
          <p:nvPr/>
        </p:nvSpPr>
        <p:spPr>
          <a:xfrm>
            <a:off x="252360" y="1143000"/>
            <a:ext cx="889164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етљивост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однос одвијања аналитичке реакције и количине испитиване супстанце) реакције може да се изрази  и као гранично разблажење (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нично разблажење представља  масу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g)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 запремину воде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m</a:t>
            </a:r>
            <a:r>
              <a:rPr b="0" lang="ru-RU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у којој још може да се докаже 1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она испитивање супстанц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0" name="Object 5"/>
          <p:cNvGraphicFramePr/>
          <p:nvPr/>
        </p:nvGraphicFramePr>
        <p:xfrm>
          <a:off x="2714760" y="3071880"/>
          <a:ext cx="1457280" cy="1055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14760" y="3071880"/>
                    <a:ext cx="1457280" cy="105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2" name="Text Box 8"/>
          <p:cNvSpPr/>
          <p:nvPr/>
        </p:nvSpPr>
        <p:spPr>
          <a:xfrm>
            <a:off x="182520" y="4221000"/>
            <a:ext cx="8893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нично разблажење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еципрочна вредност граничне концентрациј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Text Box 9"/>
          <p:cNvSpPr/>
          <p:nvPr/>
        </p:nvSpPr>
        <p:spPr>
          <a:xfrm>
            <a:off x="179280" y="4869000"/>
            <a:ext cx="8675640" cy="13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K</a:t>
            </a:r>
            <a:r>
              <a:rPr b="0" lang="sr-Latn-C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0 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во значи да калијум може да се докаже и онда, када је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 g K</a:t>
            </a:r>
            <a:r>
              <a:rPr b="0" lang="sr-Latn-C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она растворен у 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0 000 cm</a:t>
            </a:r>
            <a:r>
              <a:rPr b="0" lang="sr-Latn-C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де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4" name="Straight Arrow Connector 6"/>
          <p:cNvCxnSpPr/>
          <p:nvPr/>
        </p:nvCxnSpPr>
        <p:spPr>
          <a:xfrm>
            <a:off x="2052360" y="5084280"/>
            <a:ext cx="864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45" name="Rectangle 7"/>
          <p:cNvSpPr/>
          <p:nvPr/>
        </p:nvSpPr>
        <p:spPr>
          <a:xfrm>
            <a:off x="5000760" y="3143160"/>
            <a:ext cx="324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 -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нично разблажењ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г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нична концентрац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7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7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7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7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Rectangle 2"/>
          <p:cNvSpPr/>
          <p:nvPr/>
        </p:nvSpPr>
        <p:spPr>
          <a:xfrm>
            <a:off x="182520" y="1214280"/>
            <a:ext cx="856944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 </a:t>
            </a: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фичношћу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аналитичке реакције подразумевамо, да је та реакција карактеристична само за једну врсту јона, односно молекул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генс који даје ту реакцију је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фични реагенс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кроб је специфични реагенс за јод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TextBox 3"/>
          <p:cNvSpPr/>
          <p:nvPr/>
        </p:nvSpPr>
        <p:spPr>
          <a:xfrm>
            <a:off x="214200" y="2928960"/>
            <a:ext cx="8496360" cy="18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лективне реакције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у оне реакције код којих ограничени број јона (3 од 5 јона) даје са неким реагенсом идентичну реакцију. Реагенси који дају селективне реакције се зову </a:t>
            </a:r>
            <a:r>
              <a:rPr b="0" i="1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лективни реагенси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ојније су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лективне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еакције које су карактеристичне за јоне сличних особина (реакција таложења Ba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Sr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Pb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а SO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-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TextBox 4"/>
          <p:cNvSpPr/>
          <p:nvPr/>
        </p:nvSpPr>
        <p:spPr>
          <a:xfrm>
            <a:off x="214200" y="5000760"/>
            <a:ext cx="84981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о у датим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ксперименталним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ловима са примењеним реагенсом реагује већ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број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она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истим условима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ве реакције се називају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ним реакцијама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а примењени реагенс </a:t>
            </a:r>
            <a:r>
              <a:rPr b="0" i="1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ним реагенсом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Rectangle 1"/>
          <p:cNvSpPr/>
          <p:nvPr/>
        </p:nvSpPr>
        <p:spPr>
          <a:xfrm>
            <a:off x="437040" y="1126080"/>
            <a:ext cx="839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аздвајања и маскирања у квалитативној анализ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TextBox 3"/>
          <p:cNvSpPr/>
          <p:nvPr/>
        </p:nvSpPr>
        <p:spPr>
          <a:xfrm>
            <a:off x="182520" y="1916280"/>
            <a:ext cx="8961480" cy="16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ћина реакција није специфична због чега је често неопходно из узорка издвојити супстанцу која се доказује или супстанце које сметају доказивање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раздвајање се корист</a:t>
            </a:r>
            <a:r>
              <a:rPr b="0" lang="sr-C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 разне методе као што су: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аложење, екстракција, дестилација, хроматографија и друге методе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TextBox 4"/>
          <p:cNvSpPr/>
          <p:nvPr/>
        </p:nvSpPr>
        <p:spPr>
          <a:xfrm>
            <a:off x="179280" y="3573360"/>
            <a:ext cx="878544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скирање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еке супстанце подразумева снижавање њене концентрације до степена када се њене карактеристичне физичке и хемијске особине не испољавају у мери која би сметала доказивање или одређивање других супстанци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TextBox 5"/>
          <p:cNvSpPr/>
          <p:nvPr/>
        </p:nvSpPr>
        <p:spPr>
          <a:xfrm>
            <a:off x="182520" y="5157720"/>
            <a:ext cx="842508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скирање се најчешће остварује везивањем компоненте која омета анализу у стабилан комплекс, применом одговарајућег 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скирајућег реагенса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Rectangle 1"/>
          <p:cNvSpPr/>
          <p:nvPr/>
        </p:nvSpPr>
        <p:spPr>
          <a:xfrm>
            <a:off x="182520" y="1037880"/>
            <a:ext cx="8818560" cy="554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Calibri"/>
              </a:rPr>
              <a:t>У смеши са више катјона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Calibri"/>
              </a:rPr>
              <a:t>услед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исуств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Calibri"/>
              </a:rPr>
              <a:t>а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Calibri"/>
              </a:rPr>
              <a:t> интерферентног јона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Calibri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Calibri"/>
              </a:rPr>
              <a:t>известан број реакција неће бити могућ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Пример: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Calibri"/>
              </a:rPr>
              <a:t>Уколико смеша садржи Co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  <a:ea typeface="Calibri"/>
              </a:rPr>
              <a:t>2+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Calibri"/>
              </a:rPr>
              <a:t>  и Fe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  <a:ea typeface="Calibri"/>
              </a:rPr>
              <a:t>3+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Calibri"/>
              </a:rPr>
              <a:t>,  а желимо да изведемо реакцију са тиоцијанатом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Calibri"/>
              </a:rPr>
              <a:t> (К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Calibri"/>
              </a:rPr>
              <a:t>SCN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Calibri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Calibri"/>
              </a:rPr>
              <a:t>, тамно-црвени комплекс који гради гвожђе нам неће дозволити да уочимо присуство плавог комплекса који гради Co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  <a:ea typeface="Calibri"/>
              </a:rPr>
              <a:t>2+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Calibri"/>
              </a:rPr>
              <a:t>[Co(SCN)</a:t>
            </a:r>
            <a:r>
              <a:rPr b="0" lang="en-US" sz="22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4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Calibri"/>
              </a:rPr>
              <a:t>]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  <a:ea typeface="Calibri"/>
              </a:rPr>
              <a:t>2-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Calibri"/>
              </a:rPr>
              <a:t> - пла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Calibri"/>
              </a:rPr>
              <a:t>[Fe(SCN)</a:t>
            </a:r>
            <a:r>
              <a:rPr b="0" lang="en-US" sz="22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6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Calibri"/>
              </a:rPr>
              <a:t>]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  <a:ea typeface="Calibri"/>
              </a:rPr>
              <a:t>3-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Calibri"/>
              </a:rPr>
              <a:t> - црвен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Calibri"/>
              </a:rPr>
              <a:t>У том случају је потребно увести маскирајући реагенс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Calibri"/>
              </a:rPr>
              <a:t>- у аликвот узорка који садржи ове јоне треба додати изоамил-алкохол и натријум-флуорид. Појавиће се плави слој који показује присуство Co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  <a:ea typeface="Calibri"/>
              </a:rPr>
              <a:t>2+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Calibri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Calibri"/>
              </a:rPr>
              <a:t>[Fe(SCN)</a:t>
            </a:r>
            <a:r>
              <a:rPr b="0" lang="en-US" sz="22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6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Calibri"/>
              </a:rPr>
              <a:t>]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  <a:ea typeface="Calibri"/>
              </a:rPr>
              <a:t>3-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Calibri"/>
              </a:rPr>
              <a:t> + 6F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  <a:ea typeface="Calibri"/>
              </a:rPr>
              <a:t>- 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Calibri"/>
              </a:rPr>
              <a:t>→ [ Fe(F)</a:t>
            </a:r>
            <a:r>
              <a:rPr b="0" lang="en-US" sz="22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6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Calibri"/>
              </a:rPr>
              <a:t>]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  <a:ea typeface="Calibri"/>
              </a:rPr>
              <a:t>3-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Calibri"/>
              </a:rPr>
              <a:t> +6SCN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  <a:ea typeface="Calibri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Calibri"/>
              </a:rPr>
              <a:t>Маскирајући реагенс у овом случају је F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  <a:ea typeface="Calibri"/>
              </a:rPr>
              <a:t>-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Calibri"/>
              </a:rPr>
              <a:t> јон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TextBox 1"/>
          <p:cNvSpPr/>
          <p:nvPr/>
        </p:nvSpPr>
        <p:spPr>
          <a:xfrm>
            <a:off x="2843280" y="1052640"/>
            <a:ext cx="33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астварање узор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TextBox 2"/>
          <p:cNvSpPr/>
          <p:nvPr/>
        </p:nvSpPr>
        <p:spPr>
          <a:xfrm>
            <a:off x="179280" y="1773360"/>
            <a:ext cx="874872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д системске анализе катјона узорак се најпре раствара у води. Ако се узорак потпуно не раствара у води користе се минералне киселине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ксидујуће киселине (HCl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сидујуће киселине (HNO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conc. H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conc. HClO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sr-R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TextBox 3"/>
          <p:cNvSpPr/>
          <p:nvPr/>
        </p:nvSpPr>
        <p:spPr>
          <a:xfrm>
            <a:off x="179280" y="3429000"/>
            <a:ext cx="871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варање се прво врши разблаженим, а затим концентрованим киселинама, прво на хладно, а затим уз загревањ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TextBox 4"/>
          <p:cNvSpPr/>
          <p:nvPr/>
        </p:nvSpPr>
        <p:spPr>
          <a:xfrm>
            <a:off x="182520" y="4508640"/>
            <a:ext cx="8642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итивање растворљивости се врши са малим количинама узорка (око 0,01 mg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TextBox 5"/>
          <p:cNvSpPr/>
          <p:nvPr/>
        </p:nvSpPr>
        <p:spPr>
          <a:xfrm>
            <a:off x="182520" y="5516640"/>
            <a:ext cx="8425080" cy="81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олико се узорак не раствара у киселинама врши се топљење са базним или киселим реагенсима (са Na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NaOH, KHSO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,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.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TextBox 1"/>
          <p:cNvSpPr/>
          <p:nvPr/>
        </p:nvSpPr>
        <p:spPr>
          <a:xfrm>
            <a:off x="179280" y="1341360"/>
            <a:ext cx="8640720" cy="11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д анализе анјона узорак се обрађује  са вишком раствора Na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а би се катјони сталожили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а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клањају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о карбонати или хидроксид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TextBox 2"/>
          <p:cNvSpPr/>
          <p:nvPr/>
        </p:nvSpPr>
        <p:spPr>
          <a:xfrm>
            <a:off x="179280" y="2565360"/>
            <a:ext cx="8713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лтрат се назива содни раствор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еутралише се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говарајућом киселином, процеди евентуално заостали талог и бистри раствор испитује на анјон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TextBox 1"/>
          <p:cNvSpPr/>
          <p:nvPr/>
        </p:nvSpPr>
        <p:spPr>
          <a:xfrm>
            <a:off x="1979640" y="1125360"/>
            <a:ext cx="48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истемска анализа катјо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Rectangle 2"/>
          <p:cNvSpPr/>
          <p:nvPr/>
        </p:nvSpPr>
        <p:spPr>
          <a:xfrm>
            <a:off x="179280" y="1844640"/>
            <a:ext cx="871380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ска квалитативна анализа се примењује за раздвајање и јона и уклањање сметњи при њиховом појединачном доказивању и изводи се тако што се катјони и анјони узорка сукцесивним таложењем групним реагенсима раздвајају у аналитичке групе, а затим идентификују појединачни јони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TextBox 3"/>
          <p:cNvSpPr/>
          <p:nvPr/>
        </p:nvSpPr>
        <p:spPr>
          <a:xfrm>
            <a:off x="179280" y="4005360"/>
            <a:ext cx="8640720" cy="18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оји више метода системске анализе од којих је најпознатија и са највећом применом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дроген-сулфидна метода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стоји се у раздвајању катјона у шест аналитичких група таложењем хлоридом, сулфидом (у киселој и амонијачној средини), амонијаком и карбонатом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TextBox 1"/>
          <p:cNvSpPr/>
          <p:nvPr/>
        </p:nvSpPr>
        <p:spPr>
          <a:xfrm>
            <a:off x="179280" y="1484280"/>
            <a:ext cx="8713800" cy="483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аналитичка група-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тјони који са разблаженом хлороводоничном киселином граде слабо растворне хлориде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 аналитичка група-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тјони чији су сулфиди врло мало растворни и таложе се из хлоридо-киселих раствора водоник-сулфидом (IIa и IIb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 аналитичка група-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тјони који се у присуству амонијум-хлорида амонијаком таложе као хидроксиди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V аналитичка група-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тјони који се у амонијачној средини таложе амонијум-сулфидом као слабо растворни сулфиди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 аналитичка група-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тјони који се у амонијачној средини у присуству амонијум-хлорида таложе амонијум-карбонатом као слабо растворни карбонати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 аналитичка група-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тјони који немају заједнички реагенс и који остају у филтрату после одвајања свих пет претходних груп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Rectangle 3"/>
          <p:cNvSpPr/>
          <p:nvPr/>
        </p:nvSpPr>
        <p:spPr>
          <a:xfrm>
            <a:off x="274680" y="1916280"/>
            <a:ext cx="878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итичка хемија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 наука која се бави утврђивањем хемијског састава супстанци или смеш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TextBox 4"/>
          <p:cNvSpPr/>
          <p:nvPr/>
        </p:nvSpPr>
        <p:spPr>
          <a:xfrm>
            <a:off x="274680" y="1197000"/>
            <a:ext cx="84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analysi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разлагање целине на њене саставне делов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2" name="Diagram 9" descr=""/>
          <p:cNvPicPr/>
          <p:nvPr/>
        </p:nvPicPr>
        <p:blipFill>
          <a:blip r:embed="rId1"/>
          <a:stretch/>
        </p:blipFill>
        <p:spPr>
          <a:xfrm>
            <a:off x="146160" y="3492360"/>
            <a:ext cx="8716680" cy="28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5" name="Diagram 5" descr=""/>
          <p:cNvPicPr/>
          <p:nvPr/>
        </p:nvPicPr>
        <p:blipFill>
          <a:blip r:embed="rId1"/>
          <a:stretch/>
        </p:blipFill>
        <p:spPr>
          <a:xfrm>
            <a:off x="480960" y="1335240"/>
            <a:ext cx="7626240" cy="5553000"/>
          </a:xfrm>
          <a:prstGeom prst="rect">
            <a:avLst/>
          </a:prstGeom>
          <a:ln w="0">
            <a:noFill/>
          </a:ln>
        </p:spPr>
      </p:pic>
      <p:sp>
        <p:nvSpPr>
          <p:cNvPr id="766" name="TextBox 8"/>
          <p:cNvSpPr/>
          <p:nvPr/>
        </p:nvSpPr>
        <p:spPr>
          <a:xfrm>
            <a:off x="4211640" y="233856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2M H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TextBox 9"/>
          <p:cNvSpPr/>
          <p:nvPr/>
        </p:nvSpPr>
        <p:spPr>
          <a:xfrm>
            <a:off x="4211640" y="3429000"/>
            <a:ext cx="1655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врућа 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TextBox 10"/>
          <p:cNvSpPr/>
          <p:nvPr/>
        </p:nvSpPr>
        <p:spPr>
          <a:xfrm>
            <a:off x="4427640" y="4714920"/>
            <a:ext cx="1224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K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TextBox 11"/>
          <p:cNvSpPr/>
          <p:nvPr/>
        </p:nvSpPr>
        <p:spPr>
          <a:xfrm>
            <a:off x="6875640" y="4714920"/>
            <a:ext cx="1225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TextBox 12"/>
          <p:cNvSpPr/>
          <p:nvPr/>
        </p:nvSpPr>
        <p:spPr>
          <a:xfrm>
            <a:off x="2484360" y="4724280"/>
            <a:ext cx="1224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TextBox 7"/>
          <p:cNvSpPr/>
          <p:nvPr/>
        </p:nvSpPr>
        <p:spPr>
          <a:xfrm>
            <a:off x="250920" y="950760"/>
            <a:ext cx="88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атјони I аналитичке групе - </a:t>
            </a:r>
            <a:r>
              <a:rPr b="0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групни (таложни) реагенс је 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HCl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TextBox 3"/>
          <p:cNvSpPr/>
          <p:nvPr/>
        </p:nvSpPr>
        <p:spPr>
          <a:xfrm>
            <a:off x="3780000" y="1125360"/>
            <a:ext cx="1439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нализ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TextBox 13"/>
          <p:cNvSpPr/>
          <p:nvPr/>
        </p:nvSpPr>
        <p:spPr>
          <a:xfrm>
            <a:off x="2340000" y="183528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аств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Rectangle 14"/>
          <p:cNvSpPr/>
          <p:nvPr/>
        </p:nvSpPr>
        <p:spPr>
          <a:xfrm>
            <a:off x="6090840" y="184464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алог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Straight Connector 8"/>
          <p:cNvSpPr/>
          <p:nvPr/>
        </p:nvSpPr>
        <p:spPr>
          <a:xfrm>
            <a:off x="2916360" y="1557360"/>
            <a:ext cx="316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Straight Connector 9"/>
          <p:cNvSpPr/>
          <p:nvPr/>
        </p:nvSpPr>
        <p:spPr>
          <a:xfrm>
            <a:off x="4427640" y="1557360"/>
            <a:ext cx="0" cy="649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Straight Connector 10"/>
          <p:cNvSpPr/>
          <p:nvPr/>
        </p:nvSpPr>
        <p:spPr>
          <a:xfrm>
            <a:off x="2324160" y="2212920"/>
            <a:ext cx="468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78" name="Straight Arrow Connector 11"/>
          <p:cNvCxnSpPr/>
          <p:nvPr/>
        </p:nvCxnSpPr>
        <p:spPr>
          <a:xfrm>
            <a:off x="2307960" y="2219040"/>
            <a:ext cx="1080" cy="432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79" name="Straight Arrow Connector 12"/>
          <p:cNvCxnSpPr/>
          <p:nvPr/>
        </p:nvCxnSpPr>
        <p:spPr>
          <a:xfrm>
            <a:off x="7009920" y="2205000"/>
            <a:ext cx="1080" cy="43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80" name="TextBox 8"/>
          <p:cNvSpPr/>
          <p:nvPr/>
        </p:nvSpPr>
        <p:spPr>
          <a:xfrm>
            <a:off x="4427640" y="162864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+ 2M H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TextBox 20"/>
          <p:cNvSpPr/>
          <p:nvPr/>
        </p:nvSpPr>
        <p:spPr>
          <a:xfrm>
            <a:off x="5796000" y="2709720"/>
            <a:ext cx="266364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PbCl</a:t>
            </a:r>
            <a:r>
              <a:rPr b="1" lang="en-US" sz="2200" spc="-1" strike="noStrike" baseline="-25000">
                <a:solidFill>
                  <a:srgbClr val="c00000"/>
                </a:solidFill>
                <a:latin typeface="Times New Roman"/>
                <a:ea typeface="Times New Roman"/>
              </a:rPr>
              <a:t>2, </a:t>
            </a:r>
            <a:r>
              <a:rPr b="1" lang="en-US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AgCl, Hg</a:t>
            </a:r>
            <a:r>
              <a:rPr b="1" lang="en-US" sz="2200" spc="-1" strike="noStrike" baseline="-25000">
                <a:solidFill>
                  <a:srgbClr val="c00000"/>
                </a:solidFill>
                <a:latin typeface="Times New Roman"/>
                <a:ea typeface="Times New Roman"/>
              </a:rPr>
              <a:t>2</a:t>
            </a:r>
            <a:r>
              <a:rPr b="1" lang="en-US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Cl</a:t>
            </a:r>
            <a:r>
              <a:rPr b="1" lang="en-US" sz="2200" spc="-1" strike="noStrike" baseline="-25000">
                <a:solidFill>
                  <a:srgbClr val="c00000"/>
                </a:solidFill>
                <a:latin typeface="Times New Roman"/>
                <a:ea typeface="Times New Roman"/>
              </a:rPr>
              <a:t>2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TextBox 21"/>
          <p:cNvSpPr/>
          <p:nvPr/>
        </p:nvSpPr>
        <p:spPr>
          <a:xfrm>
            <a:off x="250920" y="2709720"/>
            <a:ext cx="5329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атјони II, III, IV и V аналитичке груп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TextBox 4"/>
          <p:cNvSpPr/>
          <p:nvPr/>
        </p:nvSpPr>
        <p:spPr>
          <a:xfrm>
            <a:off x="4735440" y="3603600"/>
            <a:ext cx="15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ли тало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TextBox 5"/>
          <p:cNvSpPr/>
          <p:nvPr/>
        </p:nvSpPr>
        <p:spPr>
          <a:xfrm>
            <a:off x="4735440" y="4251240"/>
            <a:ext cx="15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ли тало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TextBox 6"/>
          <p:cNvSpPr/>
          <p:nvPr/>
        </p:nvSpPr>
        <p:spPr>
          <a:xfrm>
            <a:off x="4735440" y="4971960"/>
            <a:ext cx="15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ли тало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6" name="Object 17"/>
          <p:cNvGraphicFramePr/>
          <p:nvPr/>
        </p:nvGraphicFramePr>
        <p:xfrm>
          <a:off x="1925640" y="3274920"/>
          <a:ext cx="5022720" cy="180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7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25640" y="3274920"/>
                    <a:ext cx="5022720" cy="18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8" name="Rectangle 22"/>
          <p:cNvSpPr/>
          <p:nvPr/>
        </p:nvSpPr>
        <p:spPr>
          <a:xfrm>
            <a:off x="179280" y="1197000"/>
            <a:ext cx="8569440" cy="2016000"/>
          </a:xfrm>
          <a:prstGeom prst="rect">
            <a:avLst/>
          </a:prstGeom>
          <a:noFill/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Straight Connector 24"/>
          <p:cNvSpPr/>
          <p:nvPr/>
        </p:nvSpPr>
        <p:spPr>
          <a:xfrm>
            <a:off x="1332000" y="5373720"/>
            <a:ext cx="604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Straight Connector 26"/>
          <p:cNvSpPr/>
          <p:nvPr/>
        </p:nvSpPr>
        <p:spPr>
          <a:xfrm>
            <a:off x="421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Straight Connector 28"/>
          <p:cNvSpPr/>
          <p:nvPr/>
        </p:nvSpPr>
        <p:spPr>
          <a:xfrm>
            <a:off x="2484360" y="5805360"/>
            <a:ext cx="374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2" name="Straight Arrow Connector 30"/>
          <p:cNvCxnSpPr/>
          <p:nvPr/>
        </p:nvCxnSpPr>
        <p:spPr>
          <a:xfrm>
            <a:off x="2484000" y="5805000"/>
            <a:ext cx="1080" cy="36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93" name="Straight Arrow Connector 32"/>
          <p:cNvCxnSpPr/>
          <p:nvPr/>
        </p:nvCxnSpPr>
        <p:spPr>
          <a:xfrm>
            <a:off x="6227280" y="5805000"/>
            <a:ext cx="1080" cy="36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94" name="Rectangle 14"/>
          <p:cNvSpPr/>
          <p:nvPr/>
        </p:nvSpPr>
        <p:spPr>
          <a:xfrm>
            <a:off x="6233760" y="566100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лог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TextBox 13"/>
          <p:cNvSpPr/>
          <p:nvPr/>
        </p:nvSpPr>
        <p:spPr>
          <a:xfrm>
            <a:off x="1476360" y="573264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в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TextBox 13"/>
          <p:cNvSpPr/>
          <p:nvPr/>
        </p:nvSpPr>
        <p:spPr>
          <a:xfrm>
            <a:off x="4140360" y="5373720"/>
            <a:ext cx="30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дестилована вода, кувањ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Rectangle 36"/>
          <p:cNvSpPr/>
          <p:nvPr/>
        </p:nvSpPr>
        <p:spPr>
          <a:xfrm>
            <a:off x="2064600" y="6238800"/>
            <a:ext cx="90792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PbCl</a:t>
            </a:r>
            <a:r>
              <a:rPr b="1" lang="en-US" sz="2200" spc="-1" strike="noStrike" baseline="-25000">
                <a:solidFill>
                  <a:srgbClr val="002060"/>
                </a:solidFill>
                <a:latin typeface="Times New Roman"/>
                <a:ea typeface="Times New Roman"/>
              </a:rPr>
              <a:t>2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Rectangle 37"/>
          <p:cNvSpPr/>
          <p:nvPr/>
        </p:nvSpPr>
        <p:spPr>
          <a:xfrm>
            <a:off x="5474520" y="6238800"/>
            <a:ext cx="173808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AgCl, Hg</a:t>
            </a:r>
            <a:r>
              <a:rPr b="1" lang="en-US" sz="2200" spc="-1" strike="noStrike" baseline="-25000">
                <a:solidFill>
                  <a:srgbClr val="c00000"/>
                </a:solidFill>
                <a:latin typeface="Times New Roman"/>
                <a:ea typeface="Times New Roman"/>
              </a:rPr>
              <a:t>2</a:t>
            </a:r>
            <a:r>
              <a:rPr b="1" lang="en-US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Cl</a:t>
            </a:r>
            <a:r>
              <a:rPr b="1" lang="en-US" sz="2200" spc="-1" strike="noStrike" baseline="-25000">
                <a:solidFill>
                  <a:srgbClr val="c00000"/>
                </a:solidFill>
                <a:latin typeface="Times New Roman"/>
                <a:ea typeface="Times New Roman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Box 10"/>
          <p:cNvSpPr/>
          <p:nvPr/>
        </p:nvSpPr>
        <p:spPr>
          <a:xfrm>
            <a:off x="5145120" y="3282840"/>
            <a:ext cx="15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ути тало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TextBox 11"/>
          <p:cNvSpPr/>
          <p:nvPr/>
        </p:nvSpPr>
        <p:spPr>
          <a:xfrm>
            <a:off x="5218200" y="4827600"/>
            <a:ext cx="15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ли тало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1" name="Object 5"/>
          <p:cNvGraphicFramePr/>
          <p:nvPr/>
        </p:nvGraphicFramePr>
        <p:xfrm>
          <a:off x="1547640" y="2924280"/>
          <a:ext cx="7089840" cy="1984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7640" y="2924280"/>
                    <a:ext cx="7089840" cy="198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TextBox 17"/>
          <p:cNvSpPr/>
          <p:nvPr/>
        </p:nvSpPr>
        <p:spPr>
          <a:xfrm>
            <a:off x="896760" y="2843280"/>
            <a:ext cx="6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TextBox 18"/>
          <p:cNvSpPr/>
          <p:nvPr/>
        </p:nvSpPr>
        <p:spPr>
          <a:xfrm>
            <a:off x="752400" y="4363920"/>
            <a:ext cx="86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Rectangle 7"/>
          <p:cNvSpPr/>
          <p:nvPr/>
        </p:nvSpPr>
        <p:spPr>
          <a:xfrm>
            <a:off x="270720" y="1874880"/>
            <a:ext cx="208872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створ: PbCl</a:t>
            </a:r>
            <a:r>
              <a:rPr b="1" lang="en-US" sz="2200" spc="-1" strike="noStrike" baseline="-25000">
                <a:solidFill>
                  <a:srgbClr val="002060"/>
                </a:solidFill>
                <a:latin typeface="Times New Roman"/>
                <a:ea typeface="Times New Roman"/>
              </a:rPr>
              <a:t>2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Box 3"/>
          <p:cNvSpPr/>
          <p:nvPr/>
        </p:nvSpPr>
        <p:spPr>
          <a:xfrm>
            <a:off x="3166920" y="2133720"/>
            <a:ext cx="302436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алог: AgCl, Hg</a:t>
            </a:r>
            <a:r>
              <a:rPr b="1" lang="en-US" sz="2200" spc="-1" strike="noStrike" baseline="-25000">
                <a:solidFill>
                  <a:srgbClr val="c00000"/>
                </a:solidFill>
                <a:latin typeface="Times New Roman"/>
                <a:ea typeface="Times New Roman"/>
              </a:rPr>
              <a:t>2</a:t>
            </a:r>
            <a:r>
              <a:rPr b="1" lang="en-US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Cl</a:t>
            </a:r>
            <a:r>
              <a:rPr b="1" lang="en-US" sz="2200" spc="-1" strike="noStrike" baseline="-25000">
                <a:solidFill>
                  <a:srgbClr val="c00000"/>
                </a:solidFill>
                <a:latin typeface="Times New Roman"/>
                <a:ea typeface="Times New Roman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TextBox 13"/>
          <p:cNvSpPr/>
          <p:nvPr/>
        </p:nvSpPr>
        <p:spPr>
          <a:xfrm>
            <a:off x="2448000" y="2843280"/>
            <a:ext cx="107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в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Rectangle 9"/>
          <p:cNvSpPr/>
          <p:nvPr/>
        </p:nvSpPr>
        <p:spPr>
          <a:xfrm>
            <a:off x="1536120" y="3645000"/>
            <a:ext cx="175176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[Ag(NH</a:t>
            </a:r>
            <a:r>
              <a:rPr b="1" lang="en-US" sz="2200" spc="-1" strike="noStrike" baseline="-25000">
                <a:solidFill>
                  <a:srgbClr val="002060"/>
                </a:solidFill>
                <a:latin typeface="Times New Roman"/>
                <a:ea typeface="Times New Roman"/>
              </a:rPr>
              <a:t>3</a:t>
            </a:r>
            <a:r>
              <a:rPr b="1" lang="en-US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)</a:t>
            </a:r>
            <a:r>
              <a:rPr b="1" lang="en-US" sz="2200" spc="-1" strike="noStrike" baseline="-25000">
                <a:solidFill>
                  <a:srgbClr val="002060"/>
                </a:solidFill>
                <a:latin typeface="Times New Roman"/>
                <a:ea typeface="Times New Roman"/>
              </a:rPr>
              <a:t>2</a:t>
            </a:r>
            <a:r>
              <a:rPr b="1" lang="en-US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]C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Rectangle 14"/>
          <p:cNvSpPr/>
          <p:nvPr/>
        </p:nvSpPr>
        <p:spPr>
          <a:xfrm>
            <a:off x="6197040" y="285264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лог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Rectangle 14"/>
          <p:cNvSpPr/>
          <p:nvPr/>
        </p:nvSpPr>
        <p:spPr>
          <a:xfrm>
            <a:off x="6499800" y="3716280"/>
            <a:ext cx="104796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Hg</a:t>
            </a:r>
            <a:r>
              <a:rPr b="1" lang="en-US" sz="2200" spc="-1" strike="noStrike" baseline="-25000">
                <a:solidFill>
                  <a:srgbClr val="c00000"/>
                </a:solidFill>
                <a:latin typeface="Times New Roman"/>
                <a:ea typeface="Times New Roman"/>
              </a:rPr>
              <a:t>2</a:t>
            </a:r>
            <a:r>
              <a:rPr b="1" lang="en-US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Cl</a:t>
            </a:r>
            <a:r>
              <a:rPr b="1" lang="en-US" sz="2200" spc="-1" strike="noStrike" baseline="-25000">
                <a:solidFill>
                  <a:srgbClr val="c00000"/>
                </a:solidFill>
                <a:latin typeface="Times New Roman"/>
                <a:ea typeface="Times New Roman"/>
              </a:rPr>
              <a:t>2</a:t>
            </a:r>
            <a:r>
              <a:rPr b="1" lang="en-US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Straight Connector 12"/>
          <p:cNvSpPr/>
          <p:nvPr/>
        </p:nvSpPr>
        <p:spPr>
          <a:xfrm>
            <a:off x="3024360" y="2565360"/>
            <a:ext cx="3166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Straight Connector 14"/>
          <p:cNvSpPr/>
          <p:nvPr/>
        </p:nvSpPr>
        <p:spPr>
          <a:xfrm>
            <a:off x="4535640" y="2565360"/>
            <a:ext cx="0" cy="649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Straight Connector 16"/>
          <p:cNvSpPr/>
          <p:nvPr/>
        </p:nvSpPr>
        <p:spPr>
          <a:xfrm>
            <a:off x="2432160" y="3220920"/>
            <a:ext cx="468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4" name="Straight Arrow Connector 18"/>
          <p:cNvCxnSpPr/>
          <p:nvPr/>
        </p:nvCxnSpPr>
        <p:spPr>
          <a:xfrm>
            <a:off x="2415960" y="3227040"/>
            <a:ext cx="1080" cy="432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15" name="Straight Arrow Connector 19"/>
          <p:cNvCxnSpPr/>
          <p:nvPr/>
        </p:nvCxnSpPr>
        <p:spPr>
          <a:xfrm>
            <a:off x="7117920" y="3213000"/>
            <a:ext cx="1080" cy="43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16" name="Rectangle 20"/>
          <p:cNvSpPr/>
          <p:nvPr/>
        </p:nvSpPr>
        <p:spPr>
          <a:xfrm>
            <a:off x="4535640" y="2565360"/>
            <a:ext cx="3456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N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H до базне реакциј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Rectangle 22"/>
          <p:cNvSpPr/>
          <p:nvPr/>
        </p:nvSpPr>
        <p:spPr>
          <a:xfrm>
            <a:off x="1079640" y="2133720"/>
            <a:ext cx="6984720" cy="2087280"/>
          </a:xfrm>
          <a:prstGeom prst="rect">
            <a:avLst/>
          </a:prstGeom>
          <a:noFill/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Rectangle 14"/>
          <p:cNvSpPr/>
          <p:nvPr/>
        </p:nvSpPr>
        <p:spPr>
          <a:xfrm>
            <a:off x="199080" y="4195800"/>
            <a:ext cx="1093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алог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9" name="Object 2"/>
          <p:cNvGraphicFramePr/>
          <p:nvPr/>
        </p:nvGraphicFramePr>
        <p:xfrm>
          <a:off x="237960" y="4587840"/>
          <a:ext cx="8755200" cy="106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4587840"/>
                    <a:ext cx="8755200" cy="106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1" name="TextBox 9"/>
          <p:cNvSpPr/>
          <p:nvPr/>
        </p:nvSpPr>
        <p:spPr>
          <a:xfrm>
            <a:off x="5680080" y="5722920"/>
            <a:ext cx="24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ва(II)-амидохлори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Right Brace 6"/>
          <p:cNvSpPr/>
          <p:nvPr/>
        </p:nvSpPr>
        <p:spPr>
          <a:xfrm rot="5400000">
            <a:off x="7611120" y="5313960"/>
            <a:ext cx="338040" cy="1895760"/>
          </a:xfrm>
          <a:custGeom>
            <a:avLst/>
            <a:gdLst>
              <a:gd name="textAreaLeft" fmla="*/ 0 w 338040"/>
              <a:gd name="textAreaRight" fmla="*/ 122040 w 338040"/>
              <a:gd name="textAreaTop" fmla="*/ 8640 h 1895760"/>
              <a:gd name="textAreaBottom" fmla="*/ 1887120 h 1895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61"/>
                  <a:pt x="10800" y="321"/>
                </a:cubicBezTo>
                <a:lnTo>
                  <a:pt x="10800" y="10479"/>
                </a:lnTo>
                <a:cubicBezTo>
                  <a:pt x="10800" y="10640"/>
                  <a:pt x="16200" y="10800"/>
                  <a:pt x="21600" y="10800"/>
                </a:cubicBezTo>
                <a:cubicBezTo>
                  <a:pt x="16200" y="10800"/>
                  <a:pt x="10800" y="10961"/>
                  <a:pt x="10800" y="11121"/>
                </a:cubicBezTo>
                <a:lnTo>
                  <a:pt x="10800" y="21279"/>
                </a:lnTo>
                <a:cubicBezTo>
                  <a:pt x="10800" y="2144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TextBox 6"/>
          <p:cNvSpPr/>
          <p:nvPr/>
        </p:nvSpPr>
        <p:spPr>
          <a:xfrm>
            <a:off x="6761160" y="6280200"/>
            <a:ext cx="20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лог црне бој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TextBox 13"/>
          <p:cNvSpPr/>
          <p:nvPr/>
        </p:nvSpPr>
        <p:spPr>
          <a:xfrm>
            <a:off x="206280" y="976320"/>
            <a:ext cx="1297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створ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5" name="Object 2"/>
          <p:cNvGraphicFramePr/>
          <p:nvPr/>
        </p:nvGraphicFramePr>
        <p:xfrm>
          <a:off x="1503360" y="1407960"/>
          <a:ext cx="5543640" cy="425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26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03360" y="1407960"/>
                    <a:ext cx="5543640" cy="42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7" name="Object 3"/>
          <p:cNvGraphicFramePr/>
          <p:nvPr/>
        </p:nvGraphicFramePr>
        <p:xfrm>
          <a:off x="782640" y="2200320"/>
          <a:ext cx="7731000" cy="395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28" name="Object 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82640" y="2200320"/>
                    <a:ext cx="7731000" cy="3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9" name="TextBox 7"/>
          <p:cNvSpPr/>
          <p:nvPr/>
        </p:nvSpPr>
        <p:spPr>
          <a:xfrm>
            <a:off x="243000" y="2200320"/>
            <a:ext cx="5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TextBox 9"/>
          <p:cNvSpPr/>
          <p:nvPr/>
        </p:nvSpPr>
        <p:spPr>
          <a:xfrm>
            <a:off x="5076720" y="2487600"/>
            <a:ext cx="182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лог беле бој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1" name="Straight Arrow Connector 15"/>
          <p:cNvCxnSpPr/>
          <p:nvPr/>
        </p:nvCxnSpPr>
        <p:spPr>
          <a:xfrm>
            <a:off x="6300360" y="2126880"/>
            <a:ext cx="1080" cy="432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graphicFrame>
        <p:nvGraphicFramePr>
          <p:cNvPr id="832" name="Object 4"/>
          <p:cNvGraphicFramePr/>
          <p:nvPr/>
        </p:nvGraphicFramePr>
        <p:xfrm>
          <a:off x="782640" y="3268800"/>
          <a:ext cx="7632720" cy="404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33" name="Object 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82640" y="3268800"/>
                    <a:ext cx="7632720" cy="40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4" name="TextBox 8"/>
          <p:cNvSpPr/>
          <p:nvPr/>
        </p:nvSpPr>
        <p:spPr>
          <a:xfrm>
            <a:off x="206280" y="3249720"/>
            <a:ext cx="5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TextBox 10"/>
          <p:cNvSpPr/>
          <p:nvPr/>
        </p:nvSpPr>
        <p:spPr>
          <a:xfrm>
            <a:off x="4167360" y="3672000"/>
            <a:ext cx="26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лог бледо жуте бој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6" name="Straight Arrow Connector 19"/>
          <p:cNvCxnSpPr/>
          <p:nvPr/>
        </p:nvCxnSpPr>
        <p:spPr>
          <a:xfrm>
            <a:off x="5606640" y="3207960"/>
            <a:ext cx="1080" cy="432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TextBox 1"/>
          <p:cNvSpPr/>
          <p:nvPr/>
        </p:nvSpPr>
        <p:spPr>
          <a:xfrm>
            <a:off x="1476360" y="1557360"/>
            <a:ext cx="58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g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P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Cu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C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Bi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S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S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TextBox 2"/>
          <p:cNvSpPr/>
          <p:nvPr/>
        </p:nvSpPr>
        <p:spPr>
          <a:xfrm>
            <a:off x="1476360" y="2565360"/>
            <a:ext cx="58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g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P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Cu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C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Bi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S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S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4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TextBox 3"/>
          <p:cNvSpPr/>
          <p:nvPr/>
        </p:nvSpPr>
        <p:spPr>
          <a:xfrm>
            <a:off x="1187280" y="3933720"/>
            <a:ext cx="7345440" cy="84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gS,  PbS,  CuS,  CdS,  B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 A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 Sn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 S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рн     црн    црн     жут    мрк       жут      жут     наранџас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Rectangle 4"/>
          <p:cNvSpPr/>
          <p:nvPr/>
        </p:nvSpPr>
        <p:spPr>
          <a:xfrm>
            <a:off x="755640" y="6021360"/>
            <a:ext cx="396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gS,  PbS,  CuS,  CdS,  B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Rectangle 5"/>
          <p:cNvSpPr/>
          <p:nvPr/>
        </p:nvSpPr>
        <p:spPr>
          <a:xfrm>
            <a:off x="5033520" y="5950080"/>
            <a:ext cx="401076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sО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S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SbО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n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[Sn(OH)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-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TextBox 6"/>
          <p:cNvSpPr/>
          <p:nvPr/>
        </p:nvSpPr>
        <p:spPr>
          <a:xfrm>
            <a:off x="4500720" y="1989000"/>
            <a:ext cx="25192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razb. HCl + 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TextBox 7"/>
          <p:cNvSpPr/>
          <p:nvPr/>
        </p:nvSpPr>
        <p:spPr>
          <a:xfrm>
            <a:off x="4643280" y="3213000"/>
            <a:ext cx="10810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TextBox 8"/>
          <p:cNvSpPr/>
          <p:nvPr/>
        </p:nvSpPr>
        <p:spPr>
          <a:xfrm>
            <a:off x="4716360" y="479736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NaO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Straight Connector 10"/>
          <p:cNvSpPr/>
          <p:nvPr/>
        </p:nvSpPr>
        <p:spPr>
          <a:xfrm>
            <a:off x="1116000" y="1989000"/>
            <a:ext cx="626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6" name="Straight Arrow Connector 15"/>
          <p:cNvCxnSpPr/>
          <p:nvPr/>
        </p:nvCxnSpPr>
        <p:spPr>
          <a:xfrm>
            <a:off x="4392360" y="1988640"/>
            <a:ext cx="3960" cy="430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47" name="Straight Connector 16"/>
          <p:cNvSpPr/>
          <p:nvPr/>
        </p:nvSpPr>
        <p:spPr>
          <a:xfrm>
            <a:off x="1268280" y="3141720"/>
            <a:ext cx="626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8" name="Straight Arrow Connector 17"/>
          <p:cNvCxnSpPr/>
          <p:nvPr/>
        </p:nvCxnSpPr>
        <p:spPr>
          <a:xfrm>
            <a:off x="4427280" y="3142800"/>
            <a:ext cx="3960" cy="430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49" name="Straight Connector 18"/>
          <p:cNvSpPr/>
          <p:nvPr/>
        </p:nvSpPr>
        <p:spPr>
          <a:xfrm>
            <a:off x="1403280" y="4797360"/>
            <a:ext cx="626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Straight Connector 21"/>
          <p:cNvSpPr/>
          <p:nvPr/>
        </p:nvSpPr>
        <p:spPr>
          <a:xfrm>
            <a:off x="4427640" y="479736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Straight Connector 23"/>
          <p:cNvSpPr/>
          <p:nvPr/>
        </p:nvSpPr>
        <p:spPr>
          <a:xfrm>
            <a:off x="2627280" y="5229360"/>
            <a:ext cx="367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2" name="Straight Arrow Connector 24"/>
          <p:cNvCxnSpPr/>
          <p:nvPr/>
        </p:nvCxnSpPr>
        <p:spPr>
          <a:xfrm>
            <a:off x="2626920" y="5230440"/>
            <a:ext cx="3960" cy="430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53" name="Straight Arrow Connector 25"/>
          <p:cNvCxnSpPr/>
          <p:nvPr/>
        </p:nvCxnSpPr>
        <p:spPr>
          <a:xfrm>
            <a:off x="6297120" y="5230440"/>
            <a:ext cx="3960" cy="430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54" name="TextBox 26"/>
          <p:cNvSpPr/>
          <p:nvPr/>
        </p:nvSpPr>
        <p:spPr>
          <a:xfrm>
            <a:off x="1476360" y="5589720"/>
            <a:ext cx="2519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лог сулфобаз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TextBox 27"/>
          <p:cNvSpPr/>
          <p:nvPr/>
        </p:nvSpPr>
        <p:spPr>
          <a:xfrm>
            <a:off x="5040360" y="5589720"/>
            <a:ext cx="3060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вор сулфокиселин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TextBox 28"/>
          <p:cNvSpPr/>
          <p:nvPr/>
        </p:nvSpPr>
        <p:spPr>
          <a:xfrm>
            <a:off x="298440" y="981000"/>
            <a:ext cx="8856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атјони II аналитичке групе- </a:t>
            </a:r>
            <a:r>
              <a:rPr b="0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групни (таложни) реагенс је 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H</a:t>
            </a:r>
            <a:r>
              <a:rPr b="1" lang="en-US" sz="2400" spc="-1" strike="noStrike" baseline="-25000">
                <a:solidFill>
                  <a:srgbClr val="c00000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Rectangle 29"/>
          <p:cNvSpPr/>
          <p:nvPr/>
        </p:nvSpPr>
        <p:spPr>
          <a:xfrm>
            <a:off x="3982320" y="3500280"/>
            <a:ext cx="945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лог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8" name="Picture 2" descr=""/>
          <p:cNvPicPr/>
          <p:nvPr/>
        </p:nvPicPr>
        <p:blipFill>
          <a:blip r:embed="rId1">
            <a:lum bright="-10000"/>
          </a:blip>
          <a:srcRect l="7468" t="19316" r="79805" b="25566"/>
          <a:stretch/>
        </p:blipFill>
        <p:spPr>
          <a:xfrm>
            <a:off x="684360" y="3205080"/>
            <a:ext cx="885600" cy="2160720"/>
          </a:xfrm>
          <a:prstGeom prst="rect">
            <a:avLst/>
          </a:prstGeom>
          <a:ln w="0">
            <a:noFill/>
          </a:ln>
        </p:spPr>
      </p:pic>
      <p:pic>
        <p:nvPicPr>
          <p:cNvPr id="859" name="Picture 3" descr=""/>
          <p:cNvPicPr/>
          <p:nvPr/>
        </p:nvPicPr>
        <p:blipFill>
          <a:blip r:embed="rId2">
            <a:lum bright="-10000"/>
          </a:blip>
          <a:srcRect l="36166" t="26914" r="51663" b="18504"/>
          <a:stretch/>
        </p:blipFill>
        <p:spPr>
          <a:xfrm>
            <a:off x="2050920" y="3278160"/>
            <a:ext cx="828720" cy="2087640"/>
          </a:xfrm>
          <a:prstGeom prst="rect">
            <a:avLst/>
          </a:prstGeom>
          <a:ln w="0">
            <a:noFill/>
          </a:ln>
        </p:spPr>
      </p:pic>
      <p:sp>
        <p:nvSpPr>
          <p:cNvPr id="860" name="TextBox 4"/>
          <p:cNvSpPr/>
          <p:nvPr/>
        </p:nvSpPr>
        <p:spPr>
          <a:xfrm>
            <a:off x="1042920" y="5797440"/>
            <a:ext cx="2305080" cy="1008720"/>
          </a:xfrm>
          <a:prstGeom prst="rect">
            <a:avLst/>
          </a:prstGeom>
          <a:noFill/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шко растворни сулфиди IIА и IIВ груп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Straight Connector 6"/>
          <p:cNvSpPr/>
          <p:nvPr/>
        </p:nvSpPr>
        <p:spPr>
          <a:xfrm flipV="1">
            <a:off x="1992240" y="5294160"/>
            <a:ext cx="289080" cy="14472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Straight Connector 8"/>
          <p:cNvSpPr/>
          <p:nvPr/>
        </p:nvSpPr>
        <p:spPr>
          <a:xfrm>
            <a:off x="1979640" y="5433840"/>
            <a:ext cx="0" cy="36036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Straight Connector 10"/>
          <p:cNvSpPr/>
          <p:nvPr/>
        </p:nvSpPr>
        <p:spPr>
          <a:xfrm flipV="1">
            <a:off x="1116000" y="2844720"/>
            <a:ext cx="0" cy="21600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Straight Connector 14"/>
          <p:cNvSpPr/>
          <p:nvPr/>
        </p:nvSpPr>
        <p:spPr>
          <a:xfrm>
            <a:off x="1116000" y="2844720"/>
            <a:ext cx="1295280" cy="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5" name="Straight Arrow Connector 16"/>
          <p:cNvCxnSpPr/>
          <p:nvPr/>
        </p:nvCxnSpPr>
        <p:spPr>
          <a:xfrm>
            <a:off x="2410920" y="2844360"/>
            <a:ext cx="1080" cy="36108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sp>
        <p:nvSpPr>
          <p:cNvPr id="866" name="TextBox 17"/>
          <p:cNvSpPr/>
          <p:nvPr/>
        </p:nvSpPr>
        <p:spPr>
          <a:xfrm>
            <a:off x="468360" y="2197080"/>
            <a:ext cx="3166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ложни реагенс - 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7" name="Object 3"/>
          <p:cNvGraphicFramePr/>
          <p:nvPr/>
        </p:nvGraphicFramePr>
        <p:xfrm>
          <a:off x="3759120" y="2197080"/>
          <a:ext cx="5060880" cy="4392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68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59120" y="2197080"/>
                    <a:ext cx="5060880" cy="439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9" name="Rectangle 20"/>
          <p:cNvSpPr/>
          <p:nvPr/>
        </p:nvSpPr>
        <p:spPr>
          <a:xfrm>
            <a:off x="182520" y="1125360"/>
            <a:ext cx="889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лфиди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рупе катјона су теже растворни (мањи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s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од сулфида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V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е катјон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ве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s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0" name="Picture 2" descr="C:\Users\Maca\Desktop\Untitled15.png"/>
          <p:cNvPicPr/>
          <p:nvPr/>
        </p:nvPicPr>
        <p:blipFill>
          <a:blip r:embed="rId1">
            <a:lum bright="-10000"/>
          </a:blip>
          <a:stretch/>
        </p:blipFill>
        <p:spPr>
          <a:xfrm>
            <a:off x="138240" y="3497400"/>
            <a:ext cx="847440" cy="2152440"/>
          </a:xfrm>
          <a:prstGeom prst="rect">
            <a:avLst/>
          </a:prstGeom>
          <a:ln w="0">
            <a:noFill/>
          </a:ln>
        </p:spPr>
      </p:pic>
      <p:pic>
        <p:nvPicPr>
          <p:cNvPr id="871" name="Picture 3" descr="C:\Users\Maca\Desktop\Untitled16.png"/>
          <p:cNvPicPr/>
          <p:nvPr/>
        </p:nvPicPr>
        <p:blipFill>
          <a:blip r:embed="rId2">
            <a:lum bright="-10000"/>
          </a:blip>
          <a:stretch/>
        </p:blipFill>
        <p:spPr>
          <a:xfrm>
            <a:off x="1001880" y="3444840"/>
            <a:ext cx="806400" cy="2235240"/>
          </a:xfrm>
          <a:prstGeom prst="rect">
            <a:avLst/>
          </a:prstGeom>
          <a:ln w="0">
            <a:noFill/>
          </a:ln>
        </p:spPr>
      </p:pic>
      <p:sp>
        <p:nvSpPr>
          <p:cNvPr id="872" name="Straight Connector 5"/>
          <p:cNvSpPr/>
          <p:nvPr/>
        </p:nvSpPr>
        <p:spPr>
          <a:xfrm flipV="1">
            <a:off x="498600" y="3208320"/>
            <a:ext cx="0" cy="21600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Straight Connector 6"/>
          <p:cNvSpPr/>
          <p:nvPr/>
        </p:nvSpPr>
        <p:spPr>
          <a:xfrm>
            <a:off x="498600" y="3208320"/>
            <a:ext cx="917280" cy="144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4" name="Straight Arrow Connector 13"/>
          <p:cNvCxnSpPr/>
          <p:nvPr/>
        </p:nvCxnSpPr>
        <p:spPr>
          <a:xfrm>
            <a:off x="1424160" y="3207960"/>
            <a:ext cx="10080" cy="28440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sp>
        <p:nvSpPr>
          <p:cNvPr id="875" name="TextBox 14"/>
          <p:cNvSpPr/>
          <p:nvPr/>
        </p:nvSpPr>
        <p:spPr>
          <a:xfrm>
            <a:off x="65160" y="2705040"/>
            <a:ext cx="21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вор NaO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6" name="Picture 4" descr=""/>
          <p:cNvPicPr/>
          <p:nvPr/>
        </p:nvPicPr>
        <p:blipFill>
          <a:blip r:embed="rId3">
            <a:lum bright="-10000"/>
          </a:blip>
          <a:srcRect l="10235" t="24237" r="77038" b="19656"/>
          <a:stretch/>
        </p:blipFill>
        <p:spPr>
          <a:xfrm>
            <a:off x="2801880" y="3371760"/>
            <a:ext cx="922320" cy="2284560"/>
          </a:xfrm>
          <a:prstGeom prst="rect">
            <a:avLst/>
          </a:prstGeom>
          <a:ln w="0">
            <a:noFill/>
          </a:ln>
        </p:spPr>
      </p:pic>
      <p:pic>
        <p:nvPicPr>
          <p:cNvPr id="877" name="Picture 5" descr=""/>
          <p:cNvPicPr/>
          <p:nvPr/>
        </p:nvPicPr>
        <p:blipFill>
          <a:blip r:embed="rId4">
            <a:lum bright="-10000"/>
          </a:blip>
          <a:srcRect l="43913" t="32283" r="34506" b="8656"/>
          <a:stretch/>
        </p:blipFill>
        <p:spPr>
          <a:xfrm>
            <a:off x="3738600" y="3371760"/>
            <a:ext cx="1581120" cy="2433600"/>
          </a:xfrm>
          <a:prstGeom prst="rect">
            <a:avLst/>
          </a:prstGeom>
          <a:ln w="0">
            <a:noFill/>
          </a:ln>
        </p:spPr>
      </p:pic>
      <p:sp>
        <p:nvSpPr>
          <p:cNvPr id="878" name="TextBox 17"/>
          <p:cNvSpPr/>
          <p:nvPr/>
        </p:nvSpPr>
        <p:spPr>
          <a:xfrm>
            <a:off x="2268360" y="1341360"/>
            <a:ext cx="460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вајање IIA и IIB груп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Striped Right Arrow 19"/>
          <p:cNvSpPr/>
          <p:nvPr/>
        </p:nvSpPr>
        <p:spPr>
          <a:xfrm>
            <a:off x="1865160" y="4308480"/>
            <a:ext cx="865440" cy="360360"/>
          </a:xfrm>
          <a:custGeom>
            <a:avLst/>
            <a:gdLst>
              <a:gd name="textAreaLeft" fmla="*/ 56160 w 865440"/>
              <a:gd name="textAreaRight" fmla="*/ 775440 w 86544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865187" h="360363">
                <a:moveTo>
                  <a:pt x="0" y="90091"/>
                </a:moveTo>
                <a:lnTo>
                  <a:pt x="11261" y="90091"/>
                </a:lnTo>
                <a:lnTo>
                  <a:pt x="11261" y="270272"/>
                </a:lnTo>
                <a:lnTo>
                  <a:pt x="0" y="270272"/>
                </a:lnTo>
                <a:close/>
                <a:moveTo>
                  <a:pt x="22523" y="90091"/>
                </a:moveTo>
                <a:lnTo>
                  <a:pt x="45045" y="90091"/>
                </a:lnTo>
                <a:lnTo>
                  <a:pt x="45045" y="270272"/>
                </a:lnTo>
                <a:lnTo>
                  <a:pt x="22523" y="270272"/>
                </a:lnTo>
                <a:close/>
                <a:moveTo>
                  <a:pt x="56307" y="90091"/>
                </a:moveTo>
                <a:lnTo>
                  <a:pt x="685006" y="90091"/>
                </a:lnTo>
                <a:lnTo>
                  <a:pt x="685006" y="0"/>
                </a:lnTo>
                <a:lnTo>
                  <a:pt x="865187" y="180182"/>
                </a:lnTo>
                <a:lnTo>
                  <a:pt x="685006" y="360363"/>
                </a:lnTo>
                <a:lnTo>
                  <a:pt x="685006" y="270272"/>
                </a:lnTo>
                <a:lnTo>
                  <a:pt x="56307" y="270272"/>
                </a:lnTo>
                <a:close/>
              </a:path>
            </a:pathLst>
          </a:custGeom>
          <a:solidFill>
            <a:srgbClr val="8ad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Straight Connector 20"/>
          <p:cNvSpPr/>
          <p:nvPr/>
        </p:nvSpPr>
        <p:spPr>
          <a:xfrm flipV="1">
            <a:off x="3224160" y="3155760"/>
            <a:ext cx="0" cy="21564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Straight Connector 21"/>
          <p:cNvSpPr/>
          <p:nvPr/>
        </p:nvSpPr>
        <p:spPr>
          <a:xfrm>
            <a:off x="3224160" y="3156120"/>
            <a:ext cx="946080" cy="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2" name="Straight Arrow Connector 22"/>
          <p:cNvCxnSpPr/>
          <p:nvPr/>
        </p:nvCxnSpPr>
        <p:spPr>
          <a:xfrm>
            <a:off x="4169880" y="3155760"/>
            <a:ext cx="10440" cy="28440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sp>
        <p:nvSpPr>
          <p:cNvPr id="883" name="TextBox 23"/>
          <p:cNvSpPr/>
          <p:nvPr/>
        </p:nvSpPr>
        <p:spPr>
          <a:xfrm>
            <a:off x="3054240" y="2652840"/>
            <a:ext cx="1692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бл. HN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4" name="Picture 6" descr=""/>
          <p:cNvPicPr/>
          <p:nvPr/>
        </p:nvPicPr>
        <p:blipFill>
          <a:blip r:embed="rId5">
            <a:lum bright="-10000"/>
          </a:blip>
          <a:srcRect l="6831" t="22441" r="80994" b="21452"/>
          <a:stretch/>
        </p:blipFill>
        <p:spPr>
          <a:xfrm>
            <a:off x="5538960" y="3371760"/>
            <a:ext cx="917280" cy="2376720"/>
          </a:xfrm>
          <a:prstGeom prst="rect">
            <a:avLst/>
          </a:prstGeom>
          <a:ln w="0">
            <a:noFill/>
          </a:ln>
        </p:spPr>
      </p:pic>
      <p:pic>
        <p:nvPicPr>
          <p:cNvPr id="885" name="Picture 7" descr=""/>
          <p:cNvPicPr/>
          <p:nvPr/>
        </p:nvPicPr>
        <p:blipFill>
          <a:blip r:embed="rId6">
            <a:lum bright="-10000"/>
          </a:blip>
          <a:srcRect l="35612" t="29995" r="52767" b="15546"/>
          <a:stretch/>
        </p:blipFill>
        <p:spPr>
          <a:xfrm>
            <a:off x="6634080" y="3371760"/>
            <a:ext cx="901800" cy="2376720"/>
          </a:xfrm>
          <a:prstGeom prst="rect">
            <a:avLst/>
          </a:prstGeom>
          <a:ln w="0">
            <a:noFill/>
          </a:ln>
        </p:spPr>
      </p:pic>
      <p:pic>
        <p:nvPicPr>
          <p:cNvPr id="886" name="Picture 8" descr=""/>
          <p:cNvPicPr/>
          <p:nvPr/>
        </p:nvPicPr>
        <p:blipFill>
          <a:blip r:embed="rId7">
            <a:lum bright="-10000"/>
          </a:blip>
          <a:srcRect l="64753" t="32456" r="24182" b="11437"/>
          <a:stretch/>
        </p:blipFill>
        <p:spPr>
          <a:xfrm>
            <a:off x="8131320" y="3300480"/>
            <a:ext cx="833400" cy="2376360"/>
          </a:xfrm>
          <a:prstGeom prst="rect">
            <a:avLst/>
          </a:prstGeom>
          <a:ln w="0">
            <a:noFill/>
          </a:ln>
        </p:spPr>
      </p:pic>
      <p:sp>
        <p:nvSpPr>
          <p:cNvPr id="887" name="Straight Connector 30"/>
          <p:cNvSpPr/>
          <p:nvPr/>
        </p:nvSpPr>
        <p:spPr>
          <a:xfrm flipV="1">
            <a:off x="6049800" y="3084480"/>
            <a:ext cx="0" cy="21600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Straight Connector 31"/>
          <p:cNvSpPr/>
          <p:nvPr/>
        </p:nvSpPr>
        <p:spPr>
          <a:xfrm>
            <a:off x="6049800" y="3084480"/>
            <a:ext cx="944640" cy="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9" name="Straight Arrow Connector 32"/>
          <p:cNvCxnSpPr/>
          <p:nvPr/>
        </p:nvCxnSpPr>
        <p:spPr>
          <a:xfrm>
            <a:off x="6994080" y="3084120"/>
            <a:ext cx="10440" cy="28332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sp>
        <p:nvSpPr>
          <p:cNvPr id="890" name="TextBox 33"/>
          <p:cNvSpPr/>
          <p:nvPr/>
        </p:nvSpPr>
        <p:spPr>
          <a:xfrm>
            <a:off x="5664240" y="2579760"/>
            <a:ext cx="1906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бл. N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Striped Right Arrow 34"/>
          <p:cNvSpPr/>
          <p:nvPr/>
        </p:nvSpPr>
        <p:spPr>
          <a:xfrm>
            <a:off x="7481880" y="4235400"/>
            <a:ext cx="649440" cy="289080"/>
          </a:xfrm>
          <a:custGeom>
            <a:avLst/>
            <a:gdLst>
              <a:gd name="textAreaLeft" fmla="*/ 45000 w 649440"/>
              <a:gd name="textAreaRight" fmla="*/ 577440 w 649440"/>
              <a:gd name="textAreaTop" fmla="*/ 72000 h 289080"/>
              <a:gd name="textAreaBottom" fmla="*/ 217080 h 289080"/>
            </a:gdLst>
            <a:ahLst/>
            <a:rect l="textAreaLeft" t="textAreaTop" r="textAreaRight" b="textAreaBottom"/>
            <a:pathLst>
              <a:path w="649287" h="288925">
                <a:moveTo>
                  <a:pt x="0" y="72231"/>
                </a:moveTo>
                <a:lnTo>
                  <a:pt x="9029" y="72231"/>
                </a:lnTo>
                <a:lnTo>
                  <a:pt x="9029" y="216694"/>
                </a:lnTo>
                <a:lnTo>
                  <a:pt x="0" y="216694"/>
                </a:lnTo>
                <a:close/>
                <a:moveTo>
                  <a:pt x="18058" y="72231"/>
                </a:moveTo>
                <a:lnTo>
                  <a:pt x="36116" y="72231"/>
                </a:lnTo>
                <a:lnTo>
                  <a:pt x="36116" y="216694"/>
                </a:lnTo>
                <a:lnTo>
                  <a:pt x="18058" y="216694"/>
                </a:lnTo>
                <a:close/>
                <a:moveTo>
                  <a:pt x="45145" y="72231"/>
                </a:moveTo>
                <a:lnTo>
                  <a:pt x="504825" y="72231"/>
                </a:lnTo>
                <a:lnTo>
                  <a:pt x="504825" y="0"/>
                </a:lnTo>
                <a:lnTo>
                  <a:pt x="649287" y="144463"/>
                </a:lnTo>
                <a:lnTo>
                  <a:pt x="504825" y="288925"/>
                </a:lnTo>
                <a:lnTo>
                  <a:pt x="504825" y="216694"/>
                </a:lnTo>
                <a:lnTo>
                  <a:pt x="45145" y="216694"/>
                </a:lnTo>
                <a:close/>
              </a:path>
            </a:pathLst>
          </a:custGeom>
          <a:solidFill>
            <a:srgbClr val="8ad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Rectangle 1"/>
          <p:cNvSpPr/>
          <p:nvPr/>
        </p:nvSpPr>
        <p:spPr>
          <a:xfrm>
            <a:off x="2411280" y="1413000"/>
            <a:ext cx="374508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gS     PbS    Bi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CuS     C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рн      црн    смеђ      црн      жу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Rectangle 2"/>
          <p:cNvSpPr/>
          <p:nvPr/>
        </p:nvSpPr>
        <p:spPr>
          <a:xfrm>
            <a:off x="760680" y="2925720"/>
            <a:ext cx="114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gS    +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Rectangle 3"/>
          <p:cNvSpPr/>
          <p:nvPr/>
        </p:nvSpPr>
        <p:spPr>
          <a:xfrm>
            <a:off x="4838760" y="2781360"/>
            <a:ext cx="216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b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Bi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Cu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Cd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5" name="Straight Arrow Connector 4"/>
          <p:cNvCxnSpPr/>
          <p:nvPr/>
        </p:nvCxnSpPr>
        <p:spPr>
          <a:xfrm>
            <a:off x="1331640" y="2854080"/>
            <a:ext cx="1080" cy="36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96" name="Straight Arrow Connector 5"/>
          <p:cNvCxnSpPr/>
          <p:nvPr/>
        </p:nvCxnSpPr>
        <p:spPr>
          <a:xfrm>
            <a:off x="3058920" y="1412640"/>
            <a:ext cx="1080" cy="36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97" name="Straight Arrow Connector 6"/>
          <p:cNvCxnSpPr/>
          <p:nvPr/>
        </p:nvCxnSpPr>
        <p:spPr>
          <a:xfrm>
            <a:off x="3708000" y="1412640"/>
            <a:ext cx="1080" cy="36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98" name="Straight Arrow Connector 7"/>
          <p:cNvCxnSpPr/>
          <p:nvPr/>
        </p:nvCxnSpPr>
        <p:spPr>
          <a:xfrm>
            <a:off x="4427280" y="1412640"/>
            <a:ext cx="1080" cy="36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99" name="Straight Arrow Connector 8"/>
          <p:cNvCxnSpPr/>
          <p:nvPr/>
        </p:nvCxnSpPr>
        <p:spPr>
          <a:xfrm>
            <a:off x="5148000" y="1412640"/>
            <a:ext cx="1080" cy="36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00" name="Straight Arrow Connector 9"/>
          <p:cNvCxnSpPr/>
          <p:nvPr/>
        </p:nvCxnSpPr>
        <p:spPr>
          <a:xfrm>
            <a:off x="5795640" y="1412640"/>
            <a:ext cx="1080" cy="36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01" name="Rectangle 10"/>
          <p:cNvSpPr/>
          <p:nvPr/>
        </p:nvSpPr>
        <p:spPr>
          <a:xfrm>
            <a:off x="845640" y="3718080"/>
            <a:ext cx="1032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HgC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Rectangle 11"/>
          <p:cNvSpPr/>
          <p:nvPr/>
        </p:nvSpPr>
        <p:spPr>
          <a:xfrm>
            <a:off x="493920" y="6165720"/>
            <a:ext cx="5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g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Rectangle 12"/>
          <p:cNvSpPr/>
          <p:nvPr/>
        </p:nvSpPr>
        <p:spPr>
          <a:xfrm>
            <a:off x="1490760" y="6165720"/>
            <a:ext cx="835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g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Rectangle 13"/>
          <p:cNvSpPr/>
          <p:nvPr/>
        </p:nvSpPr>
        <p:spPr>
          <a:xfrm>
            <a:off x="1915560" y="5229360"/>
            <a:ext cx="618120" cy="35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nCl</a:t>
            </a:r>
            <a:r>
              <a:rPr b="0" lang="en-US" sz="1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Rectangle 14"/>
          <p:cNvSpPr/>
          <p:nvPr/>
        </p:nvSpPr>
        <p:spPr>
          <a:xfrm>
            <a:off x="689040" y="5157720"/>
            <a:ext cx="7840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-лим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Rectangle 15"/>
          <p:cNvSpPr/>
          <p:nvPr/>
        </p:nvSpPr>
        <p:spPr>
          <a:xfrm>
            <a:off x="3348000" y="4068720"/>
            <a:ext cx="2448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b(OH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, Bi(OH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Rectangle 16"/>
          <p:cNvSpPr/>
          <p:nvPr/>
        </p:nvSpPr>
        <p:spPr>
          <a:xfrm>
            <a:off x="3146760" y="5435640"/>
            <a:ext cx="1220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Pb(OH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Rectangle 17"/>
          <p:cNvSpPr/>
          <p:nvPr/>
        </p:nvSpPr>
        <p:spPr>
          <a:xfrm>
            <a:off x="4725720" y="5435640"/>
            <a:ext cx="973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(OH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Rectangle 18"/>
          <p:cNvSpPr/>
          <p:nvPr/>
        </p:nvSpPr>
        <p:spPr>
          <a:xfrm>
            <a:off x="3851280" y="5950080"/>
            <a:ext cx="936720" cy="58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en-US" sz="1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</a:t>
            </a:r>
            <a:r>
              <a:rPr b="0" lang="en-US" sz="1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en-US" sz="1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7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 HAc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Rectangle 19"/>
          <p:cNvSpPr/>
          <p:nvPr/>
        </p:nvSpPr>
        <p:spPr>
          <a:xfrm>
            <a:off x="5233680" y="5950080"/>
            <a:ext cx="767160" cy="35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en-US" sz="1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nO</a:t>
            </a:r>
            <a:r>
              <a:rPr b="0" lang="en-US" sz="1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Rectangle 20"/>
          <p:cNvSpPr/>
          <p:nvPr/>
        </p:nvSpPr>
        <p:spPr>
          <a:xfrm>
            <a:off x="5011200" y="6443640"/>
            <a:ext cx="46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Rectangle 21"/>
          <p:cNvSpPr/>
          <p:nvPr/>
        </p:nvSpPr>
        <p:spPr>
          <a:xfrm>
            <a:off x="3288960" y="6443640"/>
            <a:ext cx="992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bCr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Rectangle 22"/>
          <p:cNvSpPr/>
          <p:nvPr/>
        </p:nvSpPr>
        <p:spPr>
          <a:xfrm>
            <a:off x="1277640" y="3286080"/>
            <a:ext cx="2073600" cy="35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. HNO</a:t>
            </a:r>
            <a:r>
              <a:rPr b="0" lang="en-US" sz="1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conc. HC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Rectangle 23"/>
          <p:cNvSpPr/>
          <p:nvPr/>
        </p:nvSpPr>
        <p:spPr>
          <a:xfrm>
            <a:off x="6170040" y="3213000"/>
            <a:ext cx="1285560" cy="35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. NH</a:t>
            </a:r>
            <a:r>
              <a:rPr b="0" lang="en-US" sz="1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H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Rectangle 24"/>
          <p:cNvSpPr/>
          <p:nvPr/>
        </p:nvSpPr>
        <p:spPr>
          <a:xfrm>
            <a:off x="4493520" y="4691160"/>
            <a:ext cx="9885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M NaO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Rectangle 25"/>
          <p:cNvSpPr/>
          <p:nvPr/>
        </p:nvSpPr>
        <p:spPr>
          <a:xfrm>
            <a:off x="4245840" y="2133720"/>
            <a:ext cx="3294000" cy="35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M HNO</a:t>
            </a:r>
            <a:r>
              <a:rPr b="0" lang="en-US" sz="1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ili  conc. HNO</a:t>
            </a:r>
            <a:r>
              <a:rPr b="0" lang="en-US" sz="1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 H</a:t>
            </a:r>
            <a:r>
              <a:rPr b="0" lang="en-US" sz="1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 = 1 : 3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Rectangle 26"/>
          <p:cNvSpPr/>
          <p:nvPr/>
        </p:nvSpPr>
        <p:spPr>
          <a:xfrm>
            <a:off x="6012000" y="4076640"/>
            <a:ext cx="2987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Cu(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[Cd(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Rectangle 27"/>
          <p:cNvSpPr/>
          <p:nvPr/>
        </p:nvSpPr>
        <p:spPr>
          <a:xfrm>
            <a:off x="6619320" y="5229360"/>
            <a:ext cx="1137600" cy="58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en-US" sz="1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Fe(CN)</a:t>
            </a:r>
            <a:r>
              <a:rPr b="0" lang="en-US" sz="1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Ac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Rectangle 28"/>
          <p:cNvSpPr/>
          <p:nvPr/>
        </p:nvSpPr>
        <p:spPr>
          <a:xfrm>
            <a:off x="6030360" y="6443640"/>
            <a:ext cx="1482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Fe(CN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Rectangle 29"/>
          <p:cNvSpPr/>
          <p:nvPr/>
        </p:nvSpPr>
        <p:spPr>
          <a:xfrm>
            <a:off x="8249400" y="4869000"/>
            <a:ext cx="5814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C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Rectangle 30"/>
          <p:cNvSpPr/>
          <p:nvPr/>
        </p:nvSpPr>
        <p:spPr>
          <a:xfrm>
            <a:off x="7665480" y="5302080"/>
            <a:ext cx="145800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Cu(CN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-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Cd(CN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-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Rectangle 31"/>
          <p:cNvSpPr/>
          <p:nvPr/>
        </p:nvSpPr>
        <p:spPr>
          <a:xfrm>
            <a:off x="8325000" y="6021360"/>
            <a:ext cx="479160" cy="35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n-US" sz="1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Rectangle 32"/>
          <p:cNvSpPr/>
          <p:nvPr/>
        </p:nvSpPr>
        <p:spPr>
          <a:xfrm>
            <a:off x="8032680" y="6443640"/>
            <a:ext cx="59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Straight Connector 34"/>
          <p:cNvSpPr/>
          <p:nvPr/>
        </p:nvSpPr>
        <p:spPr>
          <a:xfrm>
            <a:off x="1979640" y="2062080"/>
            <a:ext cx="460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Straight Connector 36"/>
          <p:cNvSpPr/>
          <p:nvPr/>
        </p:nvSpPr>
        <p:spPr>
          <a:xfrm>
            <a:off x="4140360" y="206208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Straight Connector 37"/>
          <p:cNvSpPr/>
          <p:nvPr/>
        </p:nvSpPr>
        <p:spPr>
          <a:xfrm>
            <a:off x="1258920" y="2494080"/>
            <a:ext cx="475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7" name="Straight Arrow Connector 39"/>
          <p:cNvCxnSpPr/>
          <p:nvPr/>
        </p:nvCxnSpPr>
        <p:spPr>
          <a:xfrm>
            <a:off x="1258560" y="2493720"/>
            <a:ext cx="1080" cy="36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28" name="Straight Arrow Connector 40"/>
          <p:cNvCxnSpPr/>
          <p:nvPr/>
        </p:nvCxnSpPr>
        <p:spPr>
          <a:xfrm>
            <a:off x="6011640" y="2493720"/>
            <a:ext cx="1080" cy="36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29" name="Straight Connector 42"/>
          <p:cNvSpPr/>
          <p:nvPr/>
        </p:nvSpPr>
        <p:spPr>
          <a:xfrm>
            <a:off x="395280" y="328608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Straight Connector 44"/>
          <p:cNvSpPr/>
          <p:nvPr/>
        </p:nvSpPr>
        <p:spPr>
          <a:xfrm>
            <a:off x="4572000" y="3213000"/>
            <a:ext cx="302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31" name="Straight Arrow Connector 45"/>
          <p:cNvCxnSpPr/>
          <p:nvPr/>
        </p:nvCxnSpPr>
        <p:spPr>
          <a:xfrm>
            <a:off x="1258560" y="3285720"/>
            <a:ext cx="1080" cy="36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32" name="Straight Connector 47"/>
          <p:cNvSpPr/>
          <p:nvPr/>
        </p:nvSpPr>
        <p:spPr>
          <a:xfrm>
            <a:off x="6012000" y="321300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Straight Connector 48"/>
          <p:cNvSpPr/>
          <p:nvPr/>
        </p:nvSpPr>
        <p:spPr>
          <a:xfrm>
            <a:off x="4500720" y="3645000"/>
            <a:ext cx="266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34" name="Straight Arrow Connector 51"/>
          <p:cNvCxnSpPr/>
          <p:nvPr/>
        </p:nvCxnSpPr>
        <p:spPr>
          <a:xfrm>
            <a:off x="4500360" y="3644640"/>
            <a:ext cx="1080" cy="36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35" name="Straight Arrow Connector 52"/>
          <p:cNvCxnSpPr/>
          <p:nvPr/>
        </p:nvCxnSpPr>
        <p:spPr>
          <a:xfrm>
            <a:off x="7160760" y="3663720"/>
            <a:ext cx="1080" cy="36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36" name="Straight Arrow Connector 53"/>
          <p:cNvCxnSpPr/>
          <p:nvPr/>
        </p:nvCxnSpPr>
        <p:spPr>
          <a:xfrm>
            <a:off x="4355640" y="4068360"/>
            <a:ext cx="1080" cy="36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37" name="Straight Arrow Connector 54"/>
          <p:cNvCxnSpPr/>
          <p:nvPr/>
        </p:nvCxnSpPr>
        <p:spPr>
          <a:xfrm>
            <a:off x="5435280" y="4068360"/>
            <a:ext cx="1080" cy="36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38" name="Straight Connector 56"/>
          <p:cNvSpPr/>
          <p:nvPr/>
        </p:nvSpPr>
        <p:spPr>
          <a:xfrm flipV="1">
            <a:off x="3333600" y="4642920"/>
            <a:ext cx="2246400" cy="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Straight Connector 58"/>
          <p:cNvSpPr/>
          <p:nvPr/>
        </p:nvSpPr>
        <p:spPr>
          <a:xfrm>
            <a:off x="4513320" y="4643280"/>
            <a:ext cx="0" cy="43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Straight Connector 59"/>
          <p:cNvSpPr/>
          <p:nvPr/>
        </p:nvSpPr>
        <p:spPr>
          <a:xfrm>
            <a:off x="6156360" y="4653000"/>
            <a:ext cx="23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Straight Connector 60"/>
          <p:cNvSpPr/>
          <p:nvPr/>
        </p:nvSpPr>
        <p:spPr>
          <a:xfrm>
            <a:off x="7380360" y="4653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Straight Connector 61"/>
          <p:cNvSpPr/>
          <p:nvPr/>
        </p:nvSpPr>
        <p:spPr>
          <a:xfrm>
            <a:off x="3865680" y="5076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3" name="Straight Arrow Connector 62"/>
          <p:cNvCxnSpPr/>
          <p:nvPr/>
        </p:nvCxnSpPr>
        <p:spPr>
          <a:xfrm>
            <a:off x="3865320" y="5076360"/>
            <a:ext cx="1080" cy="36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44" name="Straight Arrow Connector 63"/>
          <p:cNvCxnSpPr/>
          <p:nvPr/>
        </p:nvCxnSpPr>
        <p:spPr>
          <a:xfrm>
            <a:off x="5233680" y="5076360"/>
            <a:ext cx="1080" cy="36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45" name="Straight Connector 75"/>
          <p:cNvSpPr/>
          <p:nvPr/>
        </p:nvSpPr>
        <p:spPr>
          <a:xfrm>
            <a:off x="3132000" y="595008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Straight Connector 76"/>
          <p:cNvSpPr/>
          <p:nvPr/>
        </p:nvSpPr>
        <p:spPr>
          <a:xfrm>
            <a:off x="4572000" y="595008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7" name="Straight Arrow Connector 77"/>
          <p:cNvCxnSpPr/>
          <p:nvPr/>
        </p:nvCxnSpPr>
        <p:spPr>
          <a:xfrm>
            <a:off x="3779640" y="5949720"/>
            <a:ext cx="1080" cy="36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48" name="Straight Arrow Connector 78"/>
          <p:cNvCxnSpPr/>
          <p:nvPr/>
        </p:nvCxnSpPr>
        <p:spPr>
          <a:xfrm>
            <a:off x="5219280" y="5949720"/>
            <a:ext cx="1080" cy="36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49" name="Straight Connector 80"/>
          <p:cNvSpPr/>
          <p:nvPr/>
        </p:nvSpPr>
        <p:spPr>
          <a:xfrm>
            <a:off x="6588000" y="4869000"/>
            <a:ext cx="158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50" name="Straight Arrow Connector 81"/>
          <p:cNvCxnSpPr/>
          <p:nvPr/>
        </p:nvCxnSpPr>
        <p:spPr>
          <a:xfrm>
            <a:off x="6587640" y="4869000"/>
            <a:ext cx="1080" cy="1513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51" name="Straight Arrow Connector 82"/>
          <p:cNvCxnSpPr/>
          <p:nvPr/>
        </p:nvCxnSpPr>
        <p:spPr>
          <a:xfrm>
            <a:off x="8172000" y="4868640"/>
            <a:ext cx="1080" cy="36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52" name="Straight Connector 85"/>
          <p:cNvSpPr/>
          <p:nvPr/>
        </p:nvSpPr>
        <p:spPr>
          <a:xfrm>
            <a:off x="7667640" y="6021360"/>
            <a:ext cx="1225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53" name="Straight Arrow Connector 86"/>
          <p:cNvCxnSpPr/>
          <p:nvPr/>
        </p:nvCxnSpPr>
        <p:spPr>
          <a:xfrm>
            <a:off x="8316720" y="6021000"/>
            <a:ext cx="1080" cy="36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54" name="Straight Connector 90"/>
          <p:cNvSpPr/>
          <p:nvPr/>
        </p:nvSpPr>
        <p:spPr>
          <a:xfrm>
            <a:off x="684360" y="414972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Straight Connector 92"/>
          <p:cNvSpPr/>
          <p:nvPr/>
        </p:nvSpPr>
        <p:spPr>
          <a:xfrm>
            <a:off x="1316160" y="414972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Straight Connector 93"/>
          <p:cNvSpPr/>
          <p:nvPr/>
        </p:nvSpPr>
        <p:spPr>
          <a:xfrm>
            <a:off x="684360" y="4365720"/>
            <a:ext cx="122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57" name="Straight Arrow Connector 94"/>
          <p:cNvCxnSpPr/>
          <p:nvPr/>
        </p:nvCxnSpPr>
        <p:spPr>
          <a:xfrm flipH="1">
            <a:off x="677520" y="4365360"/>
            <a:ext cx="7200" cy="1781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58" name="Straight Arrow Connector 95"/>
          <p:cNvCxnSpPr/>
          <p:nvPr/>
        </p:nvCxnSpPr>
        <p:spPr>
          <a:xfrm flipH="1">
            <a:off x="1901160" y="4365360"/>
            <a:ext cx="6840" cy="1781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59" name="TextBox 1"/>
          <p:cNvSpPr/>
          <p:nvPr/>
        </p:nvSpPr>
        <p:spPr>
          <a:xfrm>
            <a:off x="2254320" y="901800"/>
            <a:ext cx="44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атјони IIA аналитичке груп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TextBox 1"/>
          <p:cNvSpPr/>
          <p:nvPr/>
        </p:nvSpPr>
        <p:spPr>
          <a:xfrm>
            <a:off x="1979640" y="1125360"/>
            <a:ext cx="56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атјони IIA аналитичке груп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1" name="Object 2"/>
          <p:cNvGraphicFramePr/>
          <p:nvPr/>
        </p:nvGraphicFramePr>
        <p:xfrm>
          <a:off x="2124000" y="2637000"/>
          <a:ext cx="4921200" cy="50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4000" y="2637000"/>
                    <a:ext cx="492120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3" name="TextBox 3"/>
          <p:cNvSpPr/>
          <p:nvPr/>
        </p:nvSpPr>
        <p:spPr>
          <a:xfrm>
            <a:off x="3419640" y="1844640"/>
            <a:ext cx="21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ва (H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TextBox 4"/>
          <p:cNvSpPr/>
          <p:nvPr/>
        </p:nvSpPr>
        <p:spPr>
          <a:xfrm>
            <a:off x="5292720" y="306864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р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5" name="Object 3"/>
          <p:cNvGraphicFramePr/>
          <p:nvPr/>
        </p:nvGraphicFramePr>
        <p:xfrm>
          <a:off x="179280" y="3595680"/>
          <a:ext cx="8696520" cy="338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66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9280" y="3595680"/>
                    <a:ext cx="8696520" cy="33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67" name="Object 4"/>
          <p:cNvGraphicFramePr/>
          <p:nvPr/>
        </p:nvGraphicFramePr>
        <p:xfrm>
          <a:off x="3203640" y="4005360"/>
          <a:ext cx="1689120" cy="709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68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203640" y="4005360"/>
                    <a:ext cx="1689120" cy="70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69" name="Object 5"/>
          <p:cNvGraphicFramePr/>
          <p:nvPr/>
        </p:nvGraphicFramePr>
        <p:xfrm>
          <a:off x="1692360" y="4869000"/>
          <a:ext cx="5025960" cy="431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70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92360" y="4869000"/>
                    <a:ext cx="502596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1" name="TextBox 8"/>
          <p:cNvSpPr/>
          <p:nvPr/>
        </p:nvSpPr>
        <p:spPr>
          <a:xfrm>
            <a:off x="5724360" y="522936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2" name="Object 6"/>
          <p:cNvGraphicFramePr/>
          <p:nvPr/>
        </p:nvGraphicFramePr>
        <p:xfrm>
          <a:off x="1908000" y="5661000"/>
          <a:ext cx="4638960" cy="504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973" name="Object 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908000" y="5661000"/>
                    <a:ext cx="463896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4" name="TextBox 10"/>
          <p:cNvSpPr/>
          <p:nvPr/>
        </p:nvSpPr>
        <p:spPr>
          <a:xfrm>
            <a:off x="5796000" y="595008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р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1258560" y="1052280"/>
            <a:ext cx="67690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едмет и подела квалитативне анализе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182520" y="1916280"/>
            <a:ext cx="856944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литативна анализа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 област аналитичке хемије која проучава методе помоћу којих се утврђује из којих се хемијских елемената, јона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рупа атома састоји испитивана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пстанца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 из којих се хемијских једињења састоји испитивана материја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иза може бити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пуна и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лимична (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рцијална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5" name="TextBox 4"/>
          <p:cNvSpPr/>
          <p:nvPr/>
        </p:nvSpPr>
        <p:spPr>
          <a:xfrm>
            <a:off x="182520" y="5022720"/>
            <a:ext cx="8675640" cy="16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пуном анализом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 утврђује хемијски састав свих компонената узор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рцијалном анализом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 утврђује присуство или одсуство једне или неколико компонената узор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7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500"/>
                                        <p:tgtEl>
                                          <p:spTgt spid="7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" dur="500"/>
                                        <p:tgtEl>
                                          <p:spTgt spid="7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" dur="500"/>
                                        <p:tgtEl>
                                          <p:spTgt spid="7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TextBox 1"/>
          <p:cNvSpPr/>
          <p:nvPr/>
        </p:nvSpPr>
        <p:spPr>
          <a:xfrm>
            <a:off x="3203640" y="907920"/>
            <a:ext cx="24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лово  (Pb</a:t>
            </a:r>
            <a:r>
              <a:rPr b="1" lang="en-US" sz="2800" spc="-1" strike="noStrike" baseline="30000">
                <a:solidFill>
                  <a:srgbClr val="c00000"/>
                </a:solidFill>
                <a:latin typeface="Times New Roman"/>
                <a:ea typeface="Times New Roman"/>
              </a:rPr>
              <a:t>2+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6" name="Object 2"/>
          <p:cNvGraphicFramePr/>
          <p:nvPr/>
        </p:nvGraphicFramePr>
        <p:xfrm>
          <a:off x="1908000" y="1557360"/>
          <a:ext cx="4908600" cy="50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8000" y="1557360"/>
                    <a:ext cx="490860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78" name="Object 3"/>
          <p:cNvGraphicFramePr/>
          <p:nvPr/>
        </p:nvGraphicFramePr>
        <p:xfrm>
          <a:off x="468360" y="2421000"/>
          <a:ext cx="7848720" cy="296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79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8360" y="2421000"/>
                    <a:ext cx="7848720" cy="29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80" name="Object 4"/>
          <p:cNvGraphicFramePr/>
          <p:nvPr/>
        </p:nvGraphicFramePr>
        <p:xfrm>
          <a:off x="3419640" y="2852640"/>
          <a:ext cx="1688760" cy="709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81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419640" y="2852640"/>
                    <a:ext cx="1688760" cy="70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2" name="TextBox 6"/>
          <p:cNvSpPr/>
          <p:nvPr/>
        </p:nvSpPr>
        <p:spPr>
          <a:xfrm>
            <a:off x="5005440" y="190800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р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TextBox 7"/>
          <p:cNvSpPr/>
          <p:nvPr/>
        </p:nvSpPr>
        <p:spPr>
          <a:xfrm>
            <a:off x="3995640" y="401940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4" name="Object 7"/>
          <p:cNvGraphicFramePr/>
          <p:nvPr/>
        </p:nvGraphicFramePr>
        <p:xfrm>
          <a:off x="436680" y="5157720"/>
          <a:ext cx="8383320" cy="287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85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36680" y="5157720"/>
                    <a:ext cx="8383320" cy="28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86" name="Object 8"/>
          <p:cNvGraphicFramePr/>
          <p:nvPr/>
        </p:nvGraphicFramePr>
        <p:xfrm>
          <a:off x="457200" y="5805360"/>
          <a:ext cx="6851520" cy="4842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987" name="Object 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57200" y="5805360"/>
                    <a:ext cx="685152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8" name="TextBox 11"/>
          <p:cNvSpPr/>
          <p:nvPr/>
        </p:nvSpPr>
        <p:spPr>
          <a:xfrm>
            <a:off x="4211640" y="622764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у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9" name="Object 9"/>
          <p:cNvGraphicFramePr/>
          <p:nvPr/>
        </p:nvGraphicFramePr>
        <p:xfrm>
          <a:off x="468360" y="3716280"/>
          <a:ext cx="6192720" cy="4716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990" name="Object 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68360" y="3716280"/>
                    <a:ext cx="6192720" cy="4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91" name="Object 10"/>
          <p:cNvGraphicFramePr/>
          <p:nvPr/>
        </p:nvGraphicFramePr>
        <p:xfrm>
          <a:off x="507960" y="4508640"/>
          <a:ext cx="5143680" cy="3124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992" name="Object 10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07960" y="4508640"/>
                    <a:ext cx="5143680" cy="31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93" name="Object 2"/>
          <p:cNvGraphicFramePr/>
          <p:nvPr/>
        </p:nvGraphicFramePr>
        <p:xfrm>
          <a:off x="2124000" y="1700280"/>
          <a:ext cx="4919760" cy="50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4000" y="1700280"/>
                    <a:ext cx="491976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5" name="TextBox 2"/>
          <p:cNvSpPr/>
          <p:nvPr/>
        </p:nvSpPr>
        <p:spPr>
          <a:xfrm>
            <a:off x="3203640" y="1125360"/>
            <a:ext cx="24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Бизмут  (Bi</a:t>
            </a:r>
            <a:r>
              <a:rPr b="1" lang="en-US" sz="2800" spc="-1" strike="noStrike" baseline="30000">
                <a:solidFill>
                  <a:srgbClr val="c00000"/>
                </a:solidFill>
                <a:latin typeface="Times New Roman"/>
                <a:ea typeface="Times New Roman"/>
              </a:rPr>
              <a:t>3+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6" name="Object 3"/>
          <p:cNvGraphicFramePr/>
          <p:nvPr/>
        </p:nvGraphicFramePr>
        <p:xfrm>
          <a:off x="179280" y="2565360"/>
          <a:ext cx="8670960" cy="330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7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9280" y="2565360"/>
                    <a:ext cx="8670960" cy="33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8" name="TextBox 4"/>
          <p:cNvSpPr/>
          <p:nvPr/>
        </p:nvSpPr>
        <p:spPr>
          <a:xfrm>
            <a:off x="5219640" y="213372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међ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9" name="Object 4"/>
          <p:cNvGraphicFramePr/>
          <p:nvPr/>
        </p:nvGraphicFramePr>
        <p:xfrm>
          <a:off x="3224160" y="3068640"/>
          <a:ext cx="2055960" cy="865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00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224160" y="3068640"/>
                    <a:ext cx="2055960" cy="86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01" name="Object 5"/>
          <p:cNvGraphicFramePr/>
          <p:nvPr/>
        </p:nvGraphicFramePr>
        <p:xfrm>
          <a:off x="303120" y="5435640"/>
          <a:ext cx="8156520" cy="576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02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3120" y="5435640"/>
                    <a:ext cx="815652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03" name="Object 6"/>
          <p:cNvGraphicFramePr/>
          <p:nvPr/>
        </p:nvGraphicFramePr>
        <p:xfrm>
          <a:off x="628560" y="4211640"/>
          <a:ext cx="7328160" cy="5191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004" name="Object 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28560" y="4211640"/>
                    <a:ext cx="7328160" cy="51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5" name="TextBox 8"/>
          <p:cNvSpPr/>
          <p:nvPr/>
        </p:nvSpPr>
        <p:spPr>
          <a:xfrm>
            <a:off x="4716360" y="457200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TextBox 9"/>
          <p:cNvSpPr/>
          <p:nvPr/>
        </p:nvSpPr>
        <p:spPr>
          <a:xfrm>
            <a:off x="4984920" y="586728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р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TextBox 1"/>
          <p:cNvSpPr/>
          <p:nvPr/>
        </p:nvSpPr>
        <p:spPr>
          <a:xfrm>
            <a:off x="3203640" y="981000"/>
            <a:ext cx="24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Бакар  (Cu</a:t>
            </a:r>
            <a:r>
              <a:rPr b="1" lang="en-US" sz="2800" spc="-1" strike="noStrike" baseline="30000">
                <a:solidFill>
                  <a:srgbClr val="c00000"/>
                </a:solidFill>
                <a:latin typeface="Times New Roman"/>
                <a:ea typeface="Times New Roman"/>
              </a:rPr>
              <a:t>2+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8" name="Object 2"/>
          <p:cNvGraphicFramePr/>
          <p:nvPr/>
        </p:nvGraphicFramePr>
        <p:xfrm>
          <a:off x="1835280" y="1700280"/>
          <a:ext cx="4554360" cy="46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5280" y="1700280"/>
                    <a:ext cx="4554360" cy="46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0" name="TextBox 3"/>
          <p:cNvSpPr/>
          <p:nvPr/>
        </p:nvSpPr>
        <p:spPr>
          <a:xfrm>
            <a:off x="4714920" y="198756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р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1" name="Object 3"/>
          <p:cNvGraphicFramePr/>
          <p:nvPr/>
        </p:nvGraphicFramePr>
        <p:xfrm>
          <a:off x="179280" y="2577960"/>
          <a:ext cx="8569440" cy="335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12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9280" y="2577960"/>
                    <a:ext cx="8569440" cy="3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13" name="Object 4"/>
          <p:cNvGraphicFramePr/>
          <p:nvPr/>
        </p:nvGraphicFramePr>
        <p:xfrm>
          <a:off x="3132000" y="2997360"/>
          <a:ext cx="2055960" cy="863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14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132000" y="2997360"/>
                    <a:ext cx="2055960" cy="86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15" name="Object 5"/>
          <p:cNvGraphicFramePr/>
          <p:nvPr/>
        </p:nvGraphicFramePr>
        <p:xfrm>
          <a:off x="826920" y="4105440"/>
          <a:ext cx="5977080" cy="3124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16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826920" y="4105440"/>
                    <a:ext cx="5977080" cy="31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17" name="Object 6"/>
          <p:cNvGraphicFramePr/>
          <p:nvPr/>
        </p:nvGraphicFramePr>
        <p:xfrm>
          <a:off x="34920" y="5364000"/>
          <a:ext cx="9064800" cy="4939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018" name="Object 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4920" y="5364000"/>
                    <a:ext cx="9064800" cy="49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9" name="TextBox 8"/>
          <p:cNvSpPr/>
          <p:nvPr/>
        </p:nvSpPr>
        <p:spPr>
          <a:xfrm>
            <a:off x="4788000" y="4427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зурно плав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TextBox 9"/>
          <p:cNvSpPr/>
          <p:nvPr/>
        </p:nvSpPr>
        <p:spPr>
          <a:xfrm>
            <a:off x="5076720" y="5796000"/>
            <a:ext cx="17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рвено-смеђ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TextBox 1"/>
          <p:cNvSpPr/>
          <p:nvPr/>
        </p:nvSpPr>
        <p:spPr>
          <a:xfrm>
            <a:off x="3203640" y="1125360"/>
            <a:ext cx="30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адмијум  (Cd</a:t>
            </a:r>
            <a:r>
              <a:rPr b="1" lang="en-US" sz="2800" spc="-1" strike="noStrike" baseline="30000">
                <a:solidFill>
                  <a:srgbClr val="c00000"/>
                </a:solidFill>
                <a:latin typeface="Times New Roman"/>
                <a:ea typeface="Times New Roman"/>
              </a:rPr>
              <a:t>2+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2" name="Object 3"/>
          <p:cNvGraphicFramePr/>
          <p:nvPr/>
        </p:nvGraphicFramePr>
        <p:xfrm>
          <a:off x="2195640" y="1844640"/>
          <a:ext cx="4752720" cy="55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95640" y="1844640"/>
                    <a:ext cx="4752720" cy="55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4" name="TextBox 4"/>
          <p:cNvSpPr/>
          <p:nvPr/>
        </p:nvSpPr>
        <p:spPr>
          <a:xfrm>
            <a:off x="5003640" y="227664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у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5" name="Object 4"/>
          <p:cNvGraphicFramePr/>
          <p:nvPr/>
        </p:nvGraphicFramePr>
        <p:xfrm>
          <a:off x="324000" y="2924280"/>
          <a:ext cx="8188200" cy="360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26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4000" y="2924280"/>
                    <a:ext cx="81882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27" name="Object 5"/>
          <p:cNvGraphicFramePr/>
          <p:nvPr/>
        </p:nvGraphicFramePr>
        <p:xfrm>
          <a:off x="3348000" y="3357720"/>
          <a:ext cx="1689120" cy="709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28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348000" y="3357720"/>
                    <a:ext cx="1689120" cy="70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29" name="Object 6"/>
          <p:cNvGraphicFramePr/>
          <p:nvPr/>
        </p:nvGraphicFramePr>
        <p:xfrm>
          <a:off x="1258920" y="4292640"/>
          <a:ext cx="6354720" cy="384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30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258920" y="4292640"/>
                    <a:ext cx="6354720" cy="38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31" name="Object 8"/>
          <p:cNvGraphicFramePr/>
          <p:nvPr/>
        </p:nvGraphicFramePr>
        <p:xfrm>
          <a:off x="119160" y="4941720"/>
          <a:ext cx="8916840" cy="3240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032" name="Object 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19160" y="4941720"/>
                    <a:ext cx="8916840" cy="3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33" name="Object 9"/>
          <p:cNvGraphicFramePr/>
          <p:nvPr/>
        </p:nvGraphicFramePr>
        <p:xfrm>
          <a:off x="1187280" y="5589720"/>
          <a:ext cx="6791400" cy="5032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034" name="Object 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187280" y="5589720"/>
                    <a:ext cx="6791400" cy="5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5" name="TextBox 11"/>
          <p:cNvSpPr/>
          <p:nvPr/>
        </p:nvSpPr>
        <p:spPr>
          <a:xfrm>
            <a:off x="4716360" y="595008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у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Rectangle 1"/>
          <p:cNvSpPr/>
          <p:nvPr/>
        </p:nvSpPr>
        <p:spPr>
          <a:xfrm>
            <a:off x="2698920" y="2205000"/>
            <a:ext cx="331308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Sb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SnS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ут        наранџаст     жут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Rectangle 2"/>
          <p:cNvSpPr/>
          <p:nvPr/>
        </p:nvSpPr>
        <p:spPr>
          <a:xfrm>
            <a:off x="770040" y="3662280"/>
            <a:ext cx="867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8" name="Straight Arrow Connector 5"/>
          <p:cNvCxnSpPr/>
          <p:nvPr/>
        </p:nvCxnSpPr>
        <p:spPr>
          <a:xfrm>
            <a:off x="3419280" y="2204640"/>
            <a:ext cx="1080" cy="36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39" name="Straight Arrow Connector 6"/>
          <p:cNvCxnSpPr/>
          <p:nvPr/>
        </p:nvCxnSpPr>
        <p:spPr>
          <a:xfrm>
            <a:off x="4500360" y="2204640"/>
            <a:ext cx="1080" cy="36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40" name="Straight Arrow Connector 7"/>
          <p:cNvCxnSpPr/>
          <p:nvPr/>
        </p:nvCxnSpPr>
        <p:spPr>
          <a:xfrm>
            <a:off x="5435280" y="2204640"/>
            <a:ext cx="1080" cy="36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41" name="Rectangle 11"/>
          <p:cNvSpPr/>
          <p:nvPr/>
        </p:nvSpPr>
        <p:spPr>
          <a:xfrm>
            <a:off x="7255080" y="6238800"/>
            <a:ext cx="68040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g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(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р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Rectangle 12"/>
          <p:cNvSpPr/>
          <p:nvPr/>
        </p:nvSpPr>
        <p:spPr>
          <a:xfrm>
            <a:off x="7045200" y="5375160"/>
            <a:ext cx="97632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g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(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Rectangle 22"/>
          <p:cNvSpPr/>
          <p:nvPr/>
        </p:nvSpPr>
        <p:spPr>
          <a:xfrm>
            <a:off x="1269000" y="4059360"/>
            <a:ext cx="663840" cy="35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NH</a:t>
            </a:r>
            <a:r>
              <a:rPr b="0" lang="en-US" sz="1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Rectangle 23"/>
          <p:cNvSpPr/>
          <p:nvPr/>
        </p:nvSpPr>
        <p:spPr>
          <a:xfrm>
            <a:off x="6376320" y="4130640"/>
            <a:ext cx="5252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F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Rectangle 26"/>
          <p:cNvSpPr/>
          <p:nvPr/>
        </p:nvSpPr>
        <p:spPr>
          <a:xfrm>
            <a:off x="6732720" y="473868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n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раство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Straight Connector 33"/>
          <p:cNvSpPr/>
          <p:nvPr/>
        </p:nvSpPr>
        <p:spPr>
          <a:xfrm>
            <a:off x="1979640" y="2867040"/>
            <a:ext cx="460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Straight Connector 34"/>
          <p:cNvSpPr/>
          <p:nvPr/>
        </p:nvSpPr>
        <p:spPr>
          <a:xfrm>
            <a:off x="4140360" y="286704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Straight Connector 35"/>
          <p:cNvSpPr/>
          <p:nvPr/>
        </p:nvSpPr>
        <p:spPr>
          <a:xfrm>
            <a:off x="1258920" y="3298680"/>
            <a:ext cx="51274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9" name="Straight Arrow Connector 36"/>
          <p:cNvCxnSpPr/>
          <p:nvPr/>
        </p:nvCxnSpPr>
        <p:spPr>
          <a:xfrm>
            <a:off x="1258560" y="3298320"/>
            <a:ext cx="1080" cy="36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50" name="Straight Arrow Connector 37"/>
          <p:cNvCxnSpPr/>
          <p:nvPr/>
        </p:nvCxnSpPr>
        <p:spPr>
          <a:xfrm>
            <a:off x="6372000" y="3298320"/>
            <a:ext cx="1080" cy="36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51" name="Straight Connector 38"/>
          <p:cNvSpPr/>
          <p:nvPr/>
        </p:nvSpPr>
        <p:spPr>
          <a:xfrm>
            <a:off x="395280" y="402264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Straight Connector 39"/>
          <p:cNvSpPr/>
          <p:nvPr/>
        </p:nvSpPr>
        <p:spPr>
          <a:xfrm>
            <a:off x="4859280" y="4094280"/>
            <a:ext cx="302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3" name="Straight Arrow Connector 40"/>
          <p:cNvCxnSpPr/>
          <p:nvPr/>
        </p:nvCxnSpPr>
        <p:spPr>
          <a:xfrm>
            <a:off x="1258560" y="4022280"/>
            <a:ext cx="1080" cy="36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54" name="Straight Connector 41"/>
          <p:cNvSpPr/>
          <p:nvPr/>
        </p:nvSpPr>
        <p:spPr>
          <a:xfrm flipH="1">
            <a:off x="6297120" y="4094280"/>
            <a:ext cx="1800" cy="37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Straight Connector 42"/>
          <p:cNvSpPr/>
          <p:nvPr/>
        </p:nvSpPr>
        <p:spPr>
          <a:xfrm>
            <a:off x="4788000" y="4451400"/>
            <a:ext cx="266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6" name="Straight Arrow Connector 43"/>
          <p:cNvCxnSpPr/>
          <p:nvPr/>
        </p:nvCxnSpPr>
        <p:spPr>
          <a:xfrm>
            <a:off x="4787640" y="4451040"/>
            <a:ext cx="1080" cy="36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57" name="Straight Arrow Connector 44"/>
          <p:cNvCxnSpPr/>
          <p:nvPr/>
        </p:nvCxnSpPr>
        <p:spPr>
          <a:xfrm>
            <a:off x="7448040" y="4452480"/>
            <a:ext cx="1080" cy="36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58" name="Straight Connector 49"/>
          <p:cNvSpPr/>
          <p:nvPr/>
        </p:nvSpPr>
        <p:spPr>
          <a:xfrm>
            <a:off x="6516720" y="5087880"/>
            <a:ext cx="18716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Straight Connector 58"/>
          <p:cNvSpPr/>
          <p:nvPr/>
        </p:nvSpPr>
        <p:spPr>
          <a:xfrm>
            <a:off x="6804000" y="5951520"/>
            <a:ext cx="158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0" name="Straight Arrow Connector 60"/>
          <p:cNvCxnSpPr/>
          <p:nvPr/>
        </p:nvCxnSpPr>
        <p:spPr>
          <a:xfrm>
            <a:off x="7524360" y="5951160"/>
            <a:ext cx="1080" cy="36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61" name="Straight Connector 63"/>
          <p:cNvSpPr/>
          <p:nvPr/>
        </p:nvSpPr>
        <p:spPr>
          <a:xfrm>
            <a:off x="684360" y="48862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Rectangle 68"/>
          <p:cNvSpPr/>
          <p:nvPr/>
        </p:nvSpPr>
        <p:spPr>
          <a:xfrm>
            <a:off x="4019400" y="1738440"/>
            <a:ext cx="11210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razb. HCl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Rectangle 69"/>
          <p:cNvSpPr/>
          <p:nvPr/>
        </p:nvSpPr>
        <p:spPr>
          <a:xfrm>
            <a:off x="4147920" y="2928960"/>
            <a:ext cx="11530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conc. HCl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Rectangle 70"/>
          <p:cNvSpPr/>
          <p:nvPr/>
        </p:nvSpPr>
        <p:spPr>
          <a:xfrm>
            <a:off x="567360" y="4516560"/>
            <a:ext cx="1530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-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sО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Rectangle 71"/>
          <p:cNvSpPr/>
          <p:nvPr/>
        </p:nvSpPr>
        <p:spPr>
          <a:xfrm>
            <a:off x="1267560" y="4994280"/>
            <a:ext cx="11210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razb. HCl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6" name="Straight Arrow Connector 76"/>
          <p:cNvCxnSpPr/>
          <p:nvPr/>
        </p:nvCxnSpPr>
        <p:spPr>
          <a:xfrm flipH="1">
            <a:off x="1258560" y="4886280"/>
            <a:ext cx="2160" cy="504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67" name="Rectangle 78"/>
          <p:cNvSpPr/>
          <p:nvPr/>
        </p:nvSpPr>
        <p:spPr>
          <a:xfrm>
            <a:off x="901800" y="5460840"/>
            <a:ext cx="72792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ут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8" name="Straight Arrow Connector 79"/>
          <p:cNvCxnSpPr/>
          <p:nvPr/>
        </p:nvCxnSpPr>
        <p:spPr>
          <a:xfrm>
            <a:off x="1628280" y="5460480"/>
            <a:ext cx="1080" cy="36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69" name="Rectangle 80"/>
          <p:cNvSpPr/>
          <p:nvPr/>
        </p:nvSpPr>
        <p:spPr>
          <a:xfrm>
            <a:off x="5364000" y="3662280"/>
            <a:ext cx="2016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SbC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[SnC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Rectangle 81"/>
          <p:cNvSpPr/>
          <p:nvPr/>
        </p:nvSpPr>
        <p:spPr>
          <a:xfrm>
            <a:off x="4557600" y="4821120"/>
            <a:ext cx="735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b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(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Rectangle 82"/>
          <p:cNvSpPr/>
          <p:nvPr/>
        </p:nvSpPr>
        <p:spPr>
          <a:xfrm>
            <a:off x="7431480" y="5087880"/>
            <a:ext cx="802440" cy="35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HgCl</a:t>
            </a:r>
            <a:r>
              <a:rPr b="0" lang="en-US" sz="1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72" name="Straight Arrow Connector 86"/>
          <p:cNvCxnSpPr/>
          <p:nvPr/>
        </p:nvCxnSpPr>
        <p:spPr>
          <a:xfrm flipH="1">
            <a:off x="7447680" y="5089680"/>
            <a:ext cx="3960" cy="358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73" name="Rectangle 89"/>
          <p:cNvSpPr/>
          <p:nvPr/>
        </p:nvSpPr>
        <p:spPr>
          <a:xfrm>
            <a:off x="7596360" y="5951520"/>
            <a:ext cx="13683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Sn</a:t>
            </a:r>
            <a:r>
              <a:rPr b="0" lang="en-US" sz="1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вишак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TextBox 90"/>
          <p:cNvSpPr/>
          <p:nvPr/>
        </p:nvSpPr>
        <p:spPr>
          <a:xfrm>
            <a:off x="1332000" y="2946240"/>
            <a:ext cx="7920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лог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TextBox 91"/>
          <p:cNvSpPr/>
          <p:nvPr/>
        </p:nvSpPr>
        <p:spPr>
          <a:xfrm>
            <a:off x="5580000" y="2946240"/>
            <a:ext cx="10080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вор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Rectangle 5"/>
          <p:cNvSpPr/>
          <p:nvPr/>
        </p:nvSpPr>
        <p:spPr>
          <a:xfrm>
            <a:off x="1547640" y="1413000"/>
            <a:ext cx="5112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-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sО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-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Sb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-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SbО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-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SnS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-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[Sn(OH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-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Straight Connector 107"/>
          <p:cNvSpPr/>
          <p:nvPr/>
        </p:nvSpPr>
        <p:spPr>
          <a:xfrm>
            <a:off x="1258920" y="1773360"/>
            <a:ext cx="554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TextBox 1"/>
          <p:cNvSpPr/>
          <p:nvPr/>
        </p:nvSpPr>
        <p:spPr>
          <a:xfrm>
            <a:off x="2154240" y="919080"/>
            <a:ext cx="50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атјони IIB аналитичке груп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79" name="Straight Arrow Connector 111"/>
          <p:cNvCxnSpPr/>
          <p:nvPr/>
        </p:nvCxnSpPr>
        <p:spPr>
          <a:xfrm>
            <a:off x="3995280" y="1773000"/>
            <a:ext cx="1080" cy="36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TextBox 1"/>
          <p:cNvSpPr/>
          <p:nvPr/>
        </p:nvSpPr>
        <p:spPr>
          <a:xfrm>
            <a:off x="2916360" y="1033560"/>
            <a:ext cx="31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рсен (As</a:t>
            </a:r>
            <a:r>
              <a:rPr b="1" lang="en-US" sz="2800" spc="-1" strike="noStrike" baseline="30000">
                <a:solidFill>
                  <a:srgbClr val="c00000"/>
                </a:solidFill>
                <a:latin typeface="Times New Roman"/>
                <a:ea typeface="Times New Roman"/>
              </a:rPr>
              <a:t>3+ 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 As</a:t>
            </a:r>
            <a:r>
              <a:rPr b="1" lang="en-US" sz="2800" spc="-1" strike="noStrike" baseline="30000">
                <a:solidFill>
                  <a:srgbClr val="c00000"/>
                </a:solidFill>
                <a:latin typeface="Times New Roman"/>
                <a:ea typeface="Times New Roman"/>
              </a:rPr>
              <a:t>5+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TextBox 2"/>
          <p:cNvSpPr/>
          <p:nvPr/>
        </p:nvSpPr>
        <p:spPr>
          <a:xfrm>
            <a:off x="182520" y="1700280"/>
            <a:ext cx="82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+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As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5+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они у воденом раствору хидролизују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2" name="Object 1"/>
          <p:cNvGraphicFramePr/>
          <p:nvPr/>
        </p:nvGraphicFramePr>
        <p:xfrm>
          <a:off x="1836720" y="2492280"/>
          <a:ext cx="5038920" cy="40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3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6720" y="2492280"/>
                    <a:ext cx="5038920" cy="40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84" name="Object 2"/>
          <p:cNvGraphicFramePr/>
          <p:nvPr/>
        </p:nvGraphicFramePr>
        <p:xfrm>
          <a:off x="1835280" y="3141720"/>
          <a:ext cx="5184720" cy="412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85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35280" y="3141720"/>
                    <a:ext cx="5184720" cy="41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6" name="TextBox 5"/>
          <p:cNvSpPr/>
          <p:nvPr/>
        </p:nvSpPr>
        <p:spPr>
          <a:xfrm>
            <a:off x="182520" y="3716280"/>
            <a:ext cx="871380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ођењем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 у раствор закишељен помоћу HCl, настаје жути талог A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7" name="Object 3"/>
          <p:cNvGraphicFramePr/>
          <p:nvPr/>
        </p:nvGraphicFramePr>
        <p:xfrm>
          <a:off x="1763640" y="4741920"/>
          <a:ext cx="5112000" cy="554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88" name="Object 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763640" y="4741920"/>
                    <a:ext cx="5112000" cy="5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89" name="Object 4"/>
          <p:cNvGraphicFramePr/>
          <p:nvPr/>
        </p:nvGraphicFramePr>
        <p:xfrm>
          <a:off x="1619280" y="5661000"/>
          <a:ext cx="5379840" cy="504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90" name="Object 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19280" y="5661000"/>
                    <a:ext cx="537984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1" name="TextBox 4"/>
          <p:cNvSpPr/>
          <p:nvPr/>
        </p:nvSpPr>
        <p:spPr>
          <a:xfrm>
            <a:off x="4859280" y="514656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у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TextBox 4"/>
          <p:cNvSpPr/>
          <p:nvPr/>
        </p:nvSpPr>
        <p:spPr>
          <a:xfrm>
            <a:off x="4932360" y="602136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у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TextBox 1"/>
          <p:cNvSpPr/>
          <p:nvPr/>
        </p:nvSpPr>
        <p:spPr>
          <a:xfrm>
            <a:off x="182520" y="1125360"/>
            <a:ext cx="576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о раствор садржи и A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5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4" name="Object 2"/>
          <p:cNvGraphicFramePr/>
          <p:nvPr/>
        </p:nvGraphicFramePr>
        <p:xfrm>
          <a:off x="1763640" y="1773360"/>
          <a:ext cx="5873760" cy="50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3640" y="1773360"/>
                    <a:ext cx="5873760" cy="50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96" name="Object 3"/>
          <p:cNvGraphicFramePr/>
          <p:nvPr/>
        </p:nvGraphicFramePr>
        <p:xfrm>
          <a:off x="1692360" y="2492280"/>
          <a:ext cx="5383080" cy="505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97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92360" y="2492280"/>
                    <a:ext cx="5383080" cy="5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8" name="TextBox 4"/>
          <p:cNvSpPr/>
          <p:nvPr/>
        </p:nvSpPr>
        <p:spPr>
          <a:xfrm>
            <a:off x="182520" y="2997360"/>
            <a:ext cx="88916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 раствара у алкалним хидроксидима, амонијаку, амонијум-дисулфиду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9" name="Object 4"/>
          <p:cNvGraphicFramePr/>
          <p:nvPr/>
        </p:nvGraphicFramePr>
        <p:xfrm>
          <a:off x="611280" y="3860640"/>
          <a:ext cx="7993080" cy="362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00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11280" y="3860640"/>
                    <a:ext cx="7993080" cy="3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1" name="TextBox 6"/>
          <p:cNvSpPr/>
          <p:nvPr/>
        </p:nvSpPr>
        <p:spPr>
          <a:xfrm>
            <a:off x="182520" y="4437000"/>
            <a:ext cx="87854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датком раствора HCl поново се таложи A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оји се раствара у амонијаку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2" name="Object 6"/>
          <p:cNvGraphicFramePr/>
          <p:nvPr/>
        </p:nvGraphicFramePr>
        <p:xfrm>
          <a:off x="401760" y="5373720"/>
          <a:ext cx="8346960" cy="509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03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01760" y="5373720"/>
                    <a:ext cx="8346960" cy="50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04" name="Object 7"/>
          <p:cNvGraphicFramePr/>
          <p:nvPr/>
        </p:nvGraphicFramePr>
        <p:xfrm>
          <a:off x="395280" y="6237360"/>
          <a:ext cx="8453520" cy="3603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105" name="Object 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95280" y="6237360"/>
                    <a:ext cx="845352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TextBox 1"/>
          <p:cNvSpPr/>
          <p:nvPr/>
        </p:nvSpPr>
        <p:spPr>
          <a:xfrm>
            <a:off x="2916360" y="1033560"/>
            <a:ext cx="41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нтимон (Sb</a:t>
            </a:r>
            <a:r>
              <a:rPr b="1" lang="en-US" sz="2800" spc="-1" strike="noStrike" baseline="30000">
                <a:solidFill>
                  <a:srgbClr val="c00000"/>
                </a:solidFill>
                <a:latin typeface="Times New Roman"/>
                <a:ea typeface="Times New Roman"/>
              </a:rPr>
              <a:t>3+ 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 Sb</a:t>
            </a:r>
            <a:r>
              <a:rPr b="1" lang="en-US" sz="2800" spc="-1" strike="noStrike" baseline="30000">
                <a:solidFill>
                  <a:srgbClr val="c00000"/>
                </a:solidFill>
                <a:latin typeface="Times New Roman"/>
                <a:ea typeface="Times New Roman"/>
              </a:rPr>
              <a:t>5+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TextBox 2"/>
          <p:cNvSpPr/>
          <p:nvPr/>
        </p:nvSpPr>
        <p:spPr>
          <a:xfrm>
            <a:off x="182520" y="1628640"/>
            <a:ext cx="871236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ођењем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 у кисели раствор (HCl) настаје наранџасти талог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b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8" name="Object 2"/>
          <p:cNvGraphicFramePr/>
          <p:nvPr/>
        </p:nvGraphicFramePr>
        <p:xfrm>
          <a:off x="2050920" y="2349360"/>
          <a:ext cx="5079960" cy="57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0920" y="2349360"/>
                    <a:ext cx="5079960" cy="57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0" name="TextBox 4"/>
          <p:cNvSpPr/>
          <p:nvPr/>
        </p:nvSpPr>
        <p:spPr>
          <a:xfrm>
            <a:off x="182520" y="3213000"/>
            <a:ext cx="43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лог се раствара у вишку HCl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1" name="Object 3"/>
          <p:cNvGraphicFramePr/>
          <p:nvPr/>
        </p:nvGraphicFramePr>
        <p:xfrm>
          <a:off x="1258920" y="3933720"/>
          <a:ext cx="6272280" cy="358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12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58920" y="3933720"/>
                    <a:ext cx="627228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3" name="TextBox 6"/>
          <p:cNvSpPr/>
          <p:nvPr/>
        </p:nvSpPr>
        <p:spPr>
          <a:xfrm>
            <a:off x="182520" y="4508640"/>
            <a:ext cx="85662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b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 раствара и у алкалним хидроксидима и амонијум-дисулфиду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4" name="Object 4"/>
          <p:cNvGraphicFramePr/>
          <p:nvPr/>
        </p:nvGraphicFramePr>
        <p:xfrm>
          <a:off x="611280" y="5589720"/>
          <a:ext cx="7961400" cy="360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15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11280" y="5589720"/>
                    <a:ext cx="79614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TextBox 1"/>
          <p:cNvSpPr/>
          <p:nvPr/>
        </p:nvSpPr>
        <p:spPr>
          <a:xfrm>
            <a:off x="182520" y="1268280"/>
            <a:ext cx="87854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датком раствора HCl поново се таложи  наранџасти S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оји се раствара у вишку киселин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7" name="Object 2"/>
          <p:cNvGraphicFramePr/>
          <p:nvPr/>
        </p:nvGraphicFramePr>
        <p:xfrm>
          <a:off x="1476360" y="2433600"/>
          <a:ext cx="5904000" cy="338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433600"/>
                    <a:ext cx="5904000" cy="33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9" name="TextBox 3"/>
          <p:cNvSpPr/>
          <p:nvPr/>
        </p:nvSpPr>
        <p:spPr>
          <a:xfrm>
            <a:off x="182520" y="299736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лементарно гвожђе редукује антимон до елементарног стања (Sb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0" name="Object 3"/>
          <p:cNvGraphicFramePr/>
          <p:nvPr/>
        </p:nvGraphicFramePr>
        <p:xfrm>
          <a:off x="3276720" y="4923000"/>
          <a:ext cx="2158920" cy="1623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21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76720" y="4923000"/>
                    <a:ext cx="21589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22" name="Object 4"/>
          <p:cNvGraphicFramePr/>
          <p:nvPr/>
        </p:nvGraphicFramePr>
        <p:xfrm>
          <a:off x="826920" y="3789360"/>
          <a:ext cx="7363080" cy="507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23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26920" y="3789360"/>
                    <a:ext cx="736308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4" name="TextBox 3"/>
          <p:cNvSpPr/>
          <p:nvPr/>
        </p:nvSpPr>
        <p:spPr>
          <a:xfrm>
            <a:off x="3995640" y="422100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р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TextBox 1"/>
          <p:cNvSpPr/>
          <p:nvPr/>
        </p:nvSpPr>
        <p:spPr>
          <a:xfrm>
            <a:off x="182520" y="1484280"/>
            <a:ext cx="575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о раствор садржи и S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5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6" name="Object 2"/>
          <p:cNvGraphicFramePr/>
          <p:nvPr/>
        </p:nvGraphicFramePr>
        <p:xfrm>
          <a:off x="1692360" y="2708280"/>
          <a:ext cx="4967280" cy="546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2360" y="2708280"/>
                    <a:ext cx="4967280" cy="5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28" name="Object 3"/>
          <p:cNvGraphicFramePr/>
          <p:nvPr/>
        </p:nvGraphicFramePr>
        <p:xfrm>
          <a:off x="1332000" y="3933720"/>
          <a:ext cx="6126120" cy="503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29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32000" y="3933720"/>
                    <a:ext cx="6126120" cy="5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TextBox 1"/>
          <p:cNvSpPr/>
          <p:nvPr/>
        </p:nvSpPr>
        <p:spPr>
          <a:xfrm>
            <a:off x="179280" y="1989000"/>
            <a:ext cx="8964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ма компонентама које се доказују, квалитативна анализа може бити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лементарна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ункционална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лекуларн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Rectangle 2"/>
          <p:cNvSpPr/>
          <p:nvPr/>
        </p:nvSpPr>
        <p:spPr>
          <a:xfrm>
            <a:off x="395280" y="1052640"/>
            <a:ext cx="820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BA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Елементарна, функционална и анализа молеку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TextBox 3"/>
          <p:cNvSpPr/>
          <p:nvPr/>
        </p:nvSpPr>
        <p:spPr>
          <a:xfrm>
            <a:off x="182520" y="3716280"/>
            <a:ext cx="8893080" cy="29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лементарном анализом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 одређују само елементи од којих је узорак изграђен (натријум, манган, сумпор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...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ункционалном анализом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 одређују присутне функционалне групе у чији састав улази неколико елемената (хидроксилна, карбонатна, сулфатна, ацетатна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...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лекуларном анализом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 утврђује потпуни састав једињења са датим функционалним групама (сирћетна киселина,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лцијум-карбонат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.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TextBox 1"/>
          <p:cNvSpPr/>
          <p:nvPr/>
        </p:nvSpPr>
        <p:spPr>
          <a:xfrm>
            <a:off x="2916360" y="1033560"/>
            <a:ext cx="32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алај (Sn</a:t>
            </a:r>
            <a:r>
              <a:rPr b="1" lang="en-US" sz="2800" spc="-1" strike="noStrike" baseline="30000">
                <a:solidFill>
                  <a:srgbClr val="c00000"/>
                </a:solidFill>
                <a:latin typeface="Times New Roman"/>
                <a:ea typeface="Times New Roman"/>
              </a:rPr>
              <a:t>2+ 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 Sn</a:t>
            </a:r>
            <a:r>
              <a:rPr b="1" lang="en-US" sz="2800" spc="-1" strike="noStrike" baseline="30000">
                <a:solidFill>
                  <a:srgbClr val="c00000"/>
                </a:solidFill>
                <a:latin typeface="Times New Roman"/>
                <a:ea typeface="Times New Roman"/>
              </a:rPr>
              <a:t>4+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1" name="Object 2"/>
          <p:cNvGraphicFramePr/>
          <p:nvPr/>
        </p:nvGraphicFramePr>
        <p:xfrm>
          <a:off x="1692360" y="1700280"/>
          <a:ext cx="5925960" cy="43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2360" y="1700280"/>
                    <a:ext cx="592596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3" name="Object 3"/>
          <p:cNvGraphicFramePr/>
          <p:nvPr/>
        </p:nvGraphicFramePr>
        <p:xfrm>
          <a:off x="2050920" y="2997360"/>
          <a:ext cx="4718160" cy="576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34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050920" y="2997360"/>
                    <a:ext cx="4718160" cy="57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5" name="TextBox 4"/>
          <p:cNvSpPr/>
          <p:nvPr/>
        </p:nvSpPr>
        <p:spPr>
          <a:xfrm>
            <a:off x="182520" y="2309760"/>
            <a:ext cx="8713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ођењем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 у кисели раствор (HCl) настаје жути талог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nS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TextBox 6"/>
          <p:cNvSpPr/>
          <p:nvPr/>
        </p:nvSpPr>
        <p:spPr>
          <a:xfrm>
            <a:off x="182520" y="3645000"/>
            <a:ext cx="7956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nS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 раствара и у алкалним хидроксидим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7" name="Object 4"/>
          <p:cNvGraphicFramePr/>
          <p:nvPr/>
        </p:nvGraphicFramePr>
        <p:xfrm>
          <a:off x="1116000" y="4251240"/>
          <a:ext cx="6913440" cy="330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38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16000" y="4251240"/>
                    <a:ext cx="6913440" cy="33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9" name="TextBox 8"/>
          <p:cNvSpPr/>
          <p:nvPr/>
        </p:nvSpPr>
        <p:spPr>
          <a:xfrm>
            <a:off x="182520" y="4724280"/>
            <a:ext cx="87854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датком раствора HCl поново се таложи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nS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оји се раствара у вишку киселин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0" name="Object 5"/>
          <p:cNvGraphicFramePr/>
          <p:nvPr/>
        </p:nvGraphicFramePr>
        <p:xfrm>
          <a:off x="133200" y="5589720"/>
          <a:ext cx="8831520" cy="503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41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33200" y="5589720"/>
                    <a:ext cx="8831520" cy="5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42" name="Object 6"/>
          <p:cNvGraphicFramePr/>
          <p:nvPr/>
        </p:nvGraphicFramePr>
        <p:xfrm>
          <a:off x="2050920" y="6281640"/>
          <a:ext cx="4969080" cy="3160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143" name="Object 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050920" y="6281640"/>
                    <a:ext cx="4969080" cy="31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TextBox 1"/>
          <p:cNvSpPr/>
          <p:nvPr/>
        </p:nvSpPr>
        <p:spPr>
          <a:xfrm>
            <a:off x="182520" y="134136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лементарно гвожђе редукује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n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4+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n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5" name="Object 2"/>
          <p:cNvGraphicFramePr/>
          <p:nvPr/>
        </p:nvGraphicFramePr>
        <p:xfrm>
          <a:off x="1258920" y="2276640"/>
          <a:ext cx="582624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2276640"/>
                    <a:ext cx="582624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47" name="Object 3"/>
          <p:cNvGraphicFramePr/>
          <p:nvPr/>
        </p:nvGraphicFramePr>
        <p:xfrm>
          <a:off x="2843280" y="2906640"/>
          <a:ext cx="2449440" cy="88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48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43280" y="2906640"/>
                    <a:ext cx="2449440" cy="88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49" name="Object 4"/>
          <p:cNvGraphicFramePr/>
          <p:nvPr/>
        </p:nvGraphicFramePr>
        <p:xfrm>
          <a:off x="1042920" y="4643280"/>
          <a:ext cx="6594480" cy="503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50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42920" y="4643280"/>
                    <a:ext cx="6594480" cy="5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1" name="TextBox 5"/>
          <p:cNvSpPr/>
          <p:nvPr/>
        </p:nvSpPr>
        <p:spPr>
          <a:xfrm>
            <a:off x="182520" y="3975120"/>
            <a:ext cx="8280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суство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n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она у раствору се доказује раствором HgC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TextBox 7"/>
          <p:cNvSpPr/>
          <p:nvPr/>
        </p:nvSpPr>
        <p:spPr>
          <a:xfrm>
            <a:off x="6659640" y="507528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3" name="Object 7"/>
          <p:cNvGraphicFramePr/>
          <p:nvPr/>
        </p:nvGraphicFramePr>
        <p:xfrm>
          <a:off x="2771640" y="5516640"/>
          <a:ext cx="2808360" cy="892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54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771640" y="5516640"/>
                    <a:ext cx="2808360" cy="89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5" name="Object 2"/>
          <p:cNvGraphicFramePr/>
          <p:nvPr/>
        </p:nvGraphicFramePr>
        <p:xfrm>
          <a:off x="971640" y="2637000"/>
          <a:ext cx="6215040" cy="50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2637000"/>
                    <a:ext cx="621504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7" name="TextBox 2"/>
          <p:cNvSpPr/>
          <p:nvPr/>
        </p:nvSpPr>
        <p:spPr>
          <a:xfrm>
            <a:off x="395280" y="1773360"/>
            <a:ext cx="80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вишку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n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јона издваја се елементарна жива (Hg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8" name="Object 3"/>
          <p:cNvGraphicFramePr/>
          <p:nvPr/>
        </p:nvGraphicFramePr>
        <p:xfrm>
          <a:off x="2843280" y="3716280"/>
          <a:ext cx="2309760" cy="792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59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43280" y="3716280"/>
                    <a:ext cx="2309760" cy="79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Rectangle 1"/>
          <p:cNvSpPr/>
          <p:nvPr/>
        </p:nvSpPr>
        <p:spPr>
          <a:xfrm>
            <a:off x="3146760" y="1197720"/>
            <a:ext cx="256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Фазна анализ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TextBox 2"/>
          <p:cNvSpPr/>
          <p:nvPr/>
        </p:nvSpPr>
        <p:spPr>
          <a:xfrm>
            <a:off x="182520" y="2060640"/>
            <a:ext cx="8642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зна анализа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ставља одређивање присуства појединих фаза (најчешће чврстих) које улазе у састав неког сложеног хетерогеног система (легура, руда, керамичких материјала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TextBox 3"/>
          <p:cNvSpPr/>
          <p:nvPr/>
        </p:nvSpPr>
        <p:spPr>
          <a:xfrm>
            <a:off x="182520" y="3789360"/>
            <a:ext cx="867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овај начин се врши испитивање расподеле легирајућих елемената у вишефазним легурама, анализа неметалних примеса (оксида, сулфида, нитрида) у металима и слич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/>
          </p:nvPr>
        </p:nvSpPr>
        <p:spPr>
          <a:xfrm>
            <a:off x="182160" y="2349000"/>
            <a:ext cx="8435880" cy="10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емијске реакције које се примењују за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казивање супстанци у квалитативној хемијској анализи називају се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итичке реакциј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3" name="Rectangle 4"/>
          <p:cNvSpPr/>
          <p:nvPr/>
        </p:nvSpPr>
        <p:spPr>
          <a:xfrm>
            <a:off x="865440" y="1197000"/>
            <a:ext cx="715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налитичке реакције, </a:t>
            </a:r>
            <a:r>
              <a:rPr b="1" lang="sr-BA" sz="2800" spc="-1" strike="noStrike">
                <a:solidFill>
                  <a:srgbClr val="c00000"/>
                </a:solidFill>
                <a:latin typeface="Times New Roman"/>
              </a:rPr>
              <a:t>р</a:t>
            </a:r>
            <a:r>
              <a:rPr b="1" lang="sr-BA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еагенси и реактив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Rectangle 3"/>
          <p:cNvSpPr/>
          <p:nvPr/>
        </p:nvSpPr>
        <p:spPr>
          <a:xfrm>
            <a:off x="182520" y="5084640"/>
            <a:ext cx="7777080" cy="12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итичке реакције могу да се изводе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вим  путем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крим путем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TextBox 4"/>
          <p:cNvSpPr/>
          <p:nvPr/>
        </p:nvSpPr>
        <p:spPr>
          <a:xfrm>
            <a:off x="182520" y="3789360"/>
            <a:ext cx="8318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B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генси или реактиви </a:t>
            </a:r>
            <a:r>
              <a:rPr b="0" lang="sr-B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 супстанце познатог састава које додајемо узорку и са којима компоненте узорка реагују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7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7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Rectangle 4"/>
          <p:cNvSpPr/>
          <p:nvPr/>
        </p:nvSpPr>
        <p:spPr>
          <a:xfrm>
            <a:off x="1547640" y="1052640"/>
            <a:ext cx="62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налитичке реакције сувим путе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Rectangle 3"/>
          <p:cNvSpPr/>
          <p:nvPr/>
        </p:nvSpPr>
        <p:spPr>
          <a:xfrm>
            <a:off x="179280" y="3857760"/>
            <a:ext cx="896472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кције сувим путем су следећ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јење пламена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испарљива једињења метала дају карактеристично обојену светлост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пљење супстанце (топљењем чврсте супстанце са чврстим оксидационим средством састојци смеше се топе, реагују и дају карактеристично  обојена једињења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тњење супстанце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итњењем чврсте супстанце са чврстим реагенсом у порцеланском авану може доћи до реакције, уз настајање карактеристичне боје смеше или стварањем карактеристичног мириса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TextBox 5"/>
          <p:cNvSpPr/>
          <p:nvPr/>
        </p:nvSpPr>
        <p:spPr>
          <a:xfrm>
            <a:off x="182520" y="1643040"/>
            <a:ext cx="8785440" cy="21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ит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вање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нашања чврсте супстанце при загревању или при топљењу са разним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врстим реагенсима (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питељима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зива се анализа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сувим путем”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јчешће представља део испитивања које претходи системској анализи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мокрим путем” и служи за добијање орјентационих информација о саставу узорк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9" name=""/>
          <p:cNvGraphicFramePr/>
          <p:nvPr/>
        </p:nvGraphicFramePr>
        <p:xfrm>
          <a:off x="324000" y="2421000"/>
          <a:ext cx="5400360" cy="2743200"/>
        </p:xfrm>
        <a:graphic>
          <a:graphicData uri="http://schemas.openxmlformats.org/drawingml/2006/table">
            <a:tbl>
              <a:tblPr/>
              <a:tblGrid>
                <a:gridCol w="3384360"/>
                <a:gridCol w="2016000"/>
              </a:tblGrid>
              <a:tr h="4597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оја пламе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9dd9"/>
                      </a:solidFill>
                    </a:lnL>
                    <a:lnR>
                      <a:noFill/>
                    </a:lnR>
                    <a:lnT w="5760">
                      <a:solidFill>
                        <a:srgbClr val="009dd9"/>
                      </a:solidFill>
                    </a:lnT>
                    <a:lnB w="5760">
                      <a:solidFill>
                        <a:srgbClr val="009dd9"/>
                      </a:solidFill>
                    </a:lnB>
                    <a:solidFill>
                      <a:srgbClr val="009dd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Једињењ</a:t>
                      </a:r>
                      <a:r>
                        <a:rPr b="1" lang="sr-C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009dd9"/>
                      </a:solidFill>
                    </a:lnR>
                    <a:lnT w="5760">
                      <a:solidFill>
                        <a:srgbClr val="009dd9"/>
                      </a:solidFill>
                    </a:lnT>
                    <a:lnB w="5760">
                      <a:solidFill>
                        <a:srgbClr val="009dd9"/>
                      </a:solidFill>
                    </a:lnB>
                    <a:solidFill>
                      <a:srgbClr val="009dd9"/>
                    </a:solidFill>
                  </a:tcPr>
                </a:tc>
              </a:tr>
              <a:tr h="4597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тојана златножут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9dd9"/>
                      </a:solidFill>
                    </a:lnL>
                    <a:lnR>
                      <a:noFill/>
                    </a:lnR>
                    <a:lnT w="5760">
                      <a:solidFill>
                        <a:srgbClr val="009dd9"/>
                      </a:solidFill>
                    </a:lnT>
                    <a:lnB w="5760">
                      <a:solidFill>
                        <a:srgbClr val="009dd9"/>
                      </a:solidFill>
                    </a:lnB>
                    <a:solidFill>
                      <a:srgbClr val="e7f0f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тријум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009dd9"/>
                      </a:solidFill>
                    </a:lnR>
                    <a:lnT w="5760">
                      <a:solidFill>
                        <a:srgbClr val="009dd9"/>
                      </a:solidFill>
                    </a:lnT>
                    <a:lnB w="5760">
                      <a:solidFill>
                        <a:srgbClr val="009dd9"/>
                      </a:solidFill>
                    </a:lnB>
                    <a:solidFill>
                      <a:srgbClr val="e7f0f8"/>
                    </a:solidFill>
                  </a:tcPr>
                </a:tc>
              </a:tr>
              <a:tr h="4597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ледољубичаст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9dd9"/>
                      </a:solidFill>
                    </a:lnL>
                    <a:lnR>
                      <a:noFill/>
                    </a:lnR>
                    <a:lnT w="5760">
                      <a:solidFill>
                        <a:srgbClr val="009dd9"/>
                      </a:solidFill>
                    </a:lnT>
                    <a:lnB w="5760">
                      <a:solidFill>
                        <a:srgbClr val="009dd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лијум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009dd9"/>
                      </a:solidFill>
                    </a:lnR>
                    <a:lnT w="5760">
                      <a:solidFill>
                        <a:srgbClr val="009dd9"/>
                      </a:solidFill>
                    </a:lnT>
                    <a:lnB w="5760">
                      <a:solidFill>
                        <a:srgbClr val="009dd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иглацрве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9dd9"/>
                      </a:solidFill>
                    </a:lnL>
                    <a:lnR>
                      <a:noFill/>
                    </a:lnR>
                    <a:lnT w="5760">
                      <a:solidFill>
                        <a:srgbClr val="009dd9"/>
                      </a:solidFill>
                    </a:lnT>
                    <a:lnB w="5760">
                      <a:solidFill>
                        <a:srgbClr val="009dd9"/>
                      </a:solidFill>
                    </a:lnB>
                    <a:solidFill>
                      <a:srgbClr val="e7f0f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лцијум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009dd9"/>
                      </a:solidFill>
                    </a:lnR>
                    <a:lnT w="5760">
                      <a:solidFill>
                        <a:srgbClr val="009dd9"/>
                      </a:solidFill>
                    </a:lnT>
                    <a:lnB w="5760">
                      <a:solidFill>
                        <a:srgbClr val="009dd9"/>
                      </a:solidFill>
                    </a:lnB>
                    <a:solidFill>
                      <a:srgbClr val="e7f0f8"/>
                    </a:solidFill>
                  </a:tcPr>
                </a:tc>
              </a:tr>
              <a:tr h="4597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рминцрве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9dd9"/>
                      </a:solidFill>
                    </a:lnL>
                    <a:lnR>
                      <a:noFill/>
                    </a:lnR>
                    <a:lnT w="5760">
                      <a:solidFill>
                        <a:srgbClr val="009dd9"/>
                      </a:solidFill>
                    </a:lnT>
                    <a:lnB w="5760">
                      <a:solidFill>
                        <a:srgbClr val="009dd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нцијум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009dd9"/>
                      </a:solidFill>
                    </a:lnR>
                    <a:lnT w="5760">
                      <a:solidFill>
                        <a:srgbClr val="009dd9"/>
                      </a:solidFill>
                    </a:lnT>
                    <a:lnB w="5760">
                      <a:solidFill>
                        <a:srgbClr val="009dd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еле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9dd9"/>
                      </a:solidFill>
                    </a:lnL>
                    <a:lnR>
                      <a:noFill/>
                    </a:lnR>
                    <a:lnT w="5760">
                      <a:solidFill>
                        <a:srgbClr val="009dd9"/>
                      </a:solidFill>
                    </a:lnT>
                    <a:lnB w="5760">
                      <a:solidFill>
                        <a:srgbClr val="009dd9"/>
                      </a:solidFill>
                    </a:lnB>
                    <a:solidFill>
                      <a:srgbClr val="e7f0f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ријум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009dd9"/>
                      </a:solidFill>
                    </a:lnR>
                    <a:lnT w="5760">
                      <a:solidFill>
                        <a:srgbClr val="009dd9"/>
                      </a:solidFill>
                    </a:lnT>
                    <a:lnB w="5760">
                      <a:solidFill>
                        <a:srgbClr val="009dd9"/>
                      </a:solidFill>
                    </a:lnB>
                    <a:solidFill>
                      <a:srgbClr val="e7f0f8"/>
                    </a:solidFill>
                  </a:tcPr>
                </a:tc>
              </a:tr>
            </a:tbl>
          </a:graphicData>
        </a:graphic>
      </p:graphicFrame>
      <p:sp>
        <p:nvSpPr>
          <p:cNvPr id="730" name="TextBox 3"/>
          <p:cNvSpPr/>
          <p:nvPr/>
        </p:nvSpPr>
        <p:spPr>
          <a:xfrm>
            <a:off x="1928880" y="1071720"/>
            <a:ext cx="528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Боје пламена неких једињењ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1" name="Picture 25" descr="C:\Users\Maca\Desktop\I ned AH\boja plamena.jpg"/>
          <p:cNvPicPr/>
          <p:nvPr/>
        </p:nvPicPr>
        <p:blipFill>
          <a:blip r:embed="rId1"/>
          <a:stretch/>
        </p:blipFill>
        <p:spPr>
          <a:xfrm>
            <a:off x="6227640" y="2060640"/>
            <a:ext cx="2409840" cy="34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Rectangle 4"/>
          <p:cNvSpPr/>
          <p:nvPr/>
        </p:nvSpPr>
        <p:spPr>
          <a:xfrm>
            <a:off x="1476360" y="1052640"/>
            <a:ext cx="64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налитичке реакције мокрим путе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TextBox 3"/>
          <p:cNvSpPr/>
          <p:nvPr/>
        </p:nvSpPr>
        <p:spPr>
          <a:xfrm>
            <a:off x="182520" y="1916280"/>
            <a:ext cx="842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ћина аналитичких реакција се изводи у растворима, па се из тог разлога говори о анализи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мокрим путем”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Rectangle 4"/>
          <p:cNvSpPr/>
          <p:nvPr/>
        </p:nvSpPr>
        <p:spPr>
          <a:xfrm>
            <a:off x="182520" y="2924280"/>
            <a:ext cx="8425080" cy="36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рганске супстанце су најчешће растворне у води или се преводе у једињења растворна у води приликом припремања узорка за анализу. Водени раствори су јако подесни за анализу, зато се често примењуј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валитативна анализа неорганских једињења мокрим путем може бити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атск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јединачн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атском анализом се испитује састав раствора на присуство катјона и анјона који се помоћу одговарајућих сукцесивних операција раздвајају на групе јона сличних особина, који се затим појединачно испитуј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јединачна анализа се врши када се једна компонента доказује без претходног одвајања од осталих компонената систем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5T06:32:23Z</dcterms:created>
  <dc:creator>Rastko Vukicevic</dc:creator>
  <dc:description/>
  <dc:language>en-US</dc:language>
  <cp:lastModifiedBy>Corporate Edition</cp:lastModifiedBy>
  <dcterms:modified xsi:type="dcterms:W3CDTF">2017-10-13T10:03:51Z</dcterms:modified>
  <cp:revision>577</cp:revision>
  <dc:subject/>
  <dc:title>Slide 1</dc:title>
</cp:coreProperties>
</file>